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7CED-8ACB-44D1-8A19-A12D09CEA4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several points, steps, or key ideas use multiple slides.  Determine if your audience is to understand a new idea, learn a process, or receive greater depth to a familiar concept.  Back up each point with adequate explanation. As appropriate, supplement your presentation with technical support data in hard copy or on disc, e-mail, or the Internet.  Develop each point adequately to communicate with your aud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521-5129-4026-94B5-C759CB2E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8FCD-26ED-4506-9CC3-F4EBCDA7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1F8-0730-4D5D-AFE2-4D838379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F8A-5DBC-4D06-BE00-9CED8C4C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0063-E1B4-454E-850C-D333F347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AB1F-ED50-46FC-8AEF-D5E5C09F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01C9-8124-4678-B2EE-EA363E0E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019F-6D79-4159-A664-C6BCB527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7B5C-A9A1-4E22-9BDB-21DF44E4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BCE0-6E1F-4F9D-BFA0-5C867432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F297-15FB-48A3-9C1F-5E54EE02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E53-4B62-4E3E-8529-E746A3D9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15BB-92C6-4390-9B66-FB00FC2A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0EC9-FED2-4C19-A2FC-C2599D93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9F56-5898-45E2-8282-9FEC7752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ED9F-4665-4E33-8846-6D62BF4A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BB03-0286-4FE2-ADC6-EFBF26DC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836-B644-460E-98D3-CFF97544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174-B70D-4292-AF04-672BB150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A1D0-E744-4DE7-A0C9-15F8FE0E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FC1C-C59B-4902-B217-E0AD9A65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1DC-567C-4A72-9858-EB5985AB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14E-EE30-4593-9350-51CA52F3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DC26-7B08-47A5-82A4-B2C91E82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266B-7939-4E96-A148-FE7F3C7D0A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5BC6-4820-4061-B703-2A6D4B7C19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calhost:8080/ekp/nd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-click launch of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to-install fe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versioning/caching feature for update/fas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some API for desktop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ndle a JNLP-deployed application in a Web Archive (WAR) fi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4438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rchitec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915840"/>
            <a:ext cx="84582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nlp spec="1.0+" codebase=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ourier New"/>
                <a:hlinkClick r:id="rId1"/>
              </a:rPr>
              <a:t>http://localhost:8080/ekp/nd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href="http://localhost:8080/ekp/nd/test.jnlp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title&gt;JWS test&lt;/titl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vendor&gt;Netdimensions&lt;/vendo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homepage href="http://www.netdimensions.com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description&gt;Test&lt;/descrip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con href="http://www.netdimensions.com/netd_images/logo.jpg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offline-allowed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j2se version="1.3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ar href="http://localhost:8080/ekp/nd/test.jar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application-desc main-class="test.test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jnlp&gt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ample of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tra Tag useful in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extra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 main-cla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Main"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1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2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VM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2se vers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1.3"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-heap-siz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64m"/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roperty name="..." value=".."/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carfield:8080/ekp/nd/test.jnl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uto Install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For Windows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OBJECT CODEBASE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http://java.sun.com/products/javawebstart/autodl/jinstall-1_4_1-windows-i586.cab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CLASSID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clsid:5852F5ED-8BF4-11D4-A245-0080C6F74284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HEIGHT=0 WIDTH=0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&lt;PARAM NAME="app" VALUE="http://carfield:8080/ekp/nd/test.jnlp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PARAM NAME="back" VALUE="true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!-- Alternate HTML for browsers which cannot instantiate the object --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A HREF="http://java.sun.com/cgi-bin/javawebstart-platform.sh?"&gt;Download Java Web Start&lt;/A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/OBJEC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lace CODEBASE for complete JRE inst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: http://carfield:8080/ekp/nd/test1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Java Web Start API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Service, which provides a service similar to the AppletCon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Service, which allows an application to interact with the JNLP Client to check if application resources are available locally, and to request them to be downloa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allow un-trust client execute system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Open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ave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pboard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Service, key base persistence store like cook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InstallerService, which provides an interface for extension installers to communicate with the JNLP Cli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ther Fea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le to access system resource using code sig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che the jar in hard-d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ckaging JNLP Applications in a Web Arch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sioning support:</a:t>
            </a:r>
            <a:br>
              <a:rPr sz="30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jar hre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http://www.mysite.com/b.jar"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ers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2.3+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6:37:15Z</dcterms:created>
  <dc:creator>carfield</dc:creator>
  <dc:description/>
  <dc:language>en-US</dc:language>
  <cp:lastModifiedBy>Netdimensions</cp:lastModifiedBy>
  <dcterms:modified xsi:type="dcterms:W3CDTF">2003-04-03T08:19:49Z</dcterms:modified>
  <cp:revision>5</cp:revision>
  <dc:subject/>
  <dc:title>Java Web Start</dc:title>
</cp:coreProperties>
</file>