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04EB-B6A3-46B3-9219-B3573E6F989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have several points, steps, or key ideas use multiple slides.  Determine if your audience is to understand a new idea, learn a process, or receive greater depth to a familiar concept.  Back up each point with adequate explanation. As appropriate, supplement your presentation with technical support data in hard copy or on disc, e-mail, or the Internet.  Develop each point adequately to communicate with your aud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53D1-738C-4E31-A62E-D445114F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46C4-0337-48B0-8DEB-F8B89AF5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3048-6D58-4298-BA8A-F2BEBCAE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8EC9-2A90-478C-9378-B4E664C9E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C30E-F95D-41B6-87CE-6297749B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207C-14D6-4B83-ADC8-08430207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CEBB-7E24-463C-86E4-2CED5080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31A9-168A-455F-9EC7-6A87E048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4BFA-2D8A-4E1A-BF66-F2725690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45E9-935F-408D-8B1E-1DC83994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E2A0-EBE8-4BFB-86BC-6AF7193D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A66D-1621-4A75-8822-7C5E434C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26A1-8131-4609-AEB1-010CAF3F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4F13-9329-4C3B-9241-ADD7BA3B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4DF2-02FE-4E1F-8161-F5B05A54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4616-4309-4709-ADB5-CC9FD08C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3EA0-17A7-4688-8FCE-84C868551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F702-1109-42DC-ACE2-1FC8990D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5CA8-6451-4C65-B6B2-18FCB968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5874-3E44-4E46-BA1A-8EB119CB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011B-22ED-4F38-8E54-30E4A95D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7462-53FF-4390-8E69-C405B981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9C1C-D731-4F72-A1D8-606AAE74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AD50-C0A9-4E88-B469-38629930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6458-7607-4E5D-B3B3-05D7169E1C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4E6F-89CE-4D04-BC43-75056D6EA1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ocalhost:8080/ekp/nd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Overview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e-click launch of 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uto-install fea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versioning/caching feature for update/fast startu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some API for desktop 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ndle a JNLP-deployed application in a Web Archive (WAR) fil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686800" cy="4438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Architectur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915840"/>
            <a:ext cx="8458200" cy="60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jnlp spec="1.0+" codebase=</a:t>
            </a:r>
            <a:r>
              <a:rPr b="0" lang="en-US" sz="1400" spc="-1" strike="noStrike" u="sng">
                <a:solidFill>
                  <a:srgbClr val="ff6600"/>
                </a:solidFill>
                <a:uFillTx/>
                <a:latin typeface="Courier New"/>
                <a:hlinkClick r:id="rId1"/>
              </a:rPr>
              <a:t>http://localhost:8080/ekp/nd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href="http://localhost:8080/ekp/nd/test.jnlp"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informa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title&gt;JWS test&lt;/titl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vendor&gt;Netdimensions&lt;/vendo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homepage href="http://www.netdimensions.com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description&gt;Test&lt;/descrip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icon href="http://www.netdimensions.com/netd_images/logo.jpg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offline-allowed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informa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securit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securit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resources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j2se version="1.3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jar href="http://localhost:8080/ekp/nd/test.jar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resources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application-desc main-class="test.test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jnlp&gt;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Example of descriptor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Extra Tag useful in descriptor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e extra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-desc main-clas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Main"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   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arg1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   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arg2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-des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e VM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2se versio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1.3"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itial-heap-siz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64m"/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roperty name="..." value=".."/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4495680"/>
            <a:ext cx="7543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ttp://carfield:8080/ekp/nd/test.jnl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Auto Install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ly For Windows platfor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OBJECT CODEBASE="</a:t>
            </a:r>
            <a:r>
              <a:rPr b="1" lang="en-US" sz="1600" spc="-1" strike="noStrike">
                <a:solidFill>
                  <a:srgbClr val="f1b60f"/>
                </a:solidFill>
                <a:latin typeface="Courier New"/>
              </a:rPr>
              <a:t>http://java.sun.com/products/javawebstart/autodl/jinstall-1_4_1-windows-i586.cab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CLASSID="</a:t>
            </a:r>
            <a:r>
              <a:rPr b="1" lang="en-US" sz="1600" spc="-1" strike="noStrike">
                <a:solidFill>
                  <a:srgbClr val="f1b60f"/>
                </a:solidFill>
                <a:latin typeface="Courier New"/>
              </a:rPr>
              <a:t>clsid:5852F5ED-8BF4-11D4-A245-0080C6F74284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HEIGHT=0 WIDTH=0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&lt;PARAM NAME="app" VALUE="http://carfield:8080/ekp/nd/test.jnlp"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PARAM NAME="back" VALUE="true"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!-- Alternate HTML for browsers which cannot instantiate the object --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A HREF="http://java.sun.com/cgi-bin/javawebstart-platform.sh?"&gt;Download Java Web Start&lt;/A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/OBJEC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place CODEBASE for complete JRE insta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: http://carfield:8080/ekp/nd/test1.ht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Java Web Start API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icService, which provides a service similar to the AppletCon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wnloadService, which allows an application to interact with the JNLP Client to check if application resources are available locally, and to request them to be downloa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allow un-trust client execute system 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Open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Save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pboard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t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Service, key base persistence store like cook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nsionInstallerService, which provides an interface for extension installers to communicate with the JNLP Cli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Other Featur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ble to access system resource using code sig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che the jar in hard-dis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ckaging JNLP Applications in a Web Arch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ersioning support:</a:t>
            </a:r>
            <a:br>
              <a:rPr sz="30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jar href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="http://www.mysite.com/b.jar"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ersion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="2.3+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06:37:15Z</dcterms:created>
  <dc:creator>carfield</dc:creator>
  <dc:description/>
  <dc:language>en-US</dc:language>
  <cp:lastModifiedBy>Netdimensions</cp:lastModifiedBy>
  <dcterms:modified xsi:type="dcterms:W3CDTF">2003-04-03T08:19:49Z</dcterms:modified>
  <cp:revision>5</cp:revision>
  <dc:subject/>
  <dc:title>Java Web Start</dc:title>
</cp:coreProperties>
</file>