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3.xml.rels" ContentType="application/vnd.openxmlformats-package.relationships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ldImg"/>
          </p:nvPr>
        </p:nvSpPr>
        <p:spPr>
          <a:xfrm>
            <a:off x="1142640" y="685440"/>
            <a:ext cx="456876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move the sli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596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 type="dt" idx="7"/>
          </p:nvPr>
        </p:nvSpPr>
        <p:spPr>
          <a:xfrm>
            <a:off x="3886200" y="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 type="ftr" idx="8"/>
          </p:nvPr>
        </p:nvSpPr>
        <p:spPr>
          <a:xfrm>
            <a:off x="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 type="sldNum" idx="9"/>
          </p:nvPr>
        </p:nvSpPr>
        <p:spPr>
          <a:xfrm>
            <a:off x="3886200" y="8686800"/>
            <a:ext cx="296856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algn="r"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Tahoma"/>
              <a:buChar char="•"/>
              <a:tabLst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E852BAC-CBA0-4FF6-842F-2C929F9632C3}" type="slidenum">
              <a:rPr b="0" lang="en-GB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776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9B59-B601-4594-B3B1-CB7F909AEB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B2C3B-4C31-4D4F-AE04-2AFD67F4BE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809C2-A1AA-4B11-898F-8FBAE4AA4D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C622-5F90-42B2-BDDC-018A9FF3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05520-D136-418D-8224-BA4BB2E8F0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23F53-9AB4-4A58-96B6-69115432A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713078-51E8-442E-9ED4-260DEE710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10D1AA-1437-440E-AFF0-BD055B7DF6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F28D46-654A-42EF-BD26-19C288378A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447798-54E6-4CEB-911B-684CD4754A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C27A21-BE32-4C29-81DD-6A2D5A002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23068-87D9-4C61-8F0A-AE11A1DE2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9E4C3-3F2C-4124-8E7B-A08DD135DB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72C475-13DC-4619-AC1C-EA7BC1B60B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737268-9624-4E4B-A797-0E45D6CB16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C0B714-D334-4F11-A43F-4C7242DDF4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46392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13800" y="19047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9144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46392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13800" y="4012560"/>
            <a:ext cx="242784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00089F-785C-4CB4-8F8E-CE3898099B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998BF-0C59-453A-8C02-0EE9B80EA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DC98E-ED27-421C-AE3D-2B93DF7C07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30E4DA-00DD-49CC-A99F-C3329F0C4A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914040" y="584280"/>
            <a:ext cx="7311960" cy="553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102000"/>
              </a:lnSpc>
              <a:spcBef>
                <a:spcPts val="2251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521EE-5E04-4218-9091-74D626B830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72A4A-11C7-4237-8284-E2827F9372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778280" y="40125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6E848D-DBA1-48DA-8714-5C4843E2D9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91440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78280" y="1904760"/>
            <a:ext cx="3679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914400" y="4012560"/>
            <a:ext cx="7540560" cy="192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02000"/>
              </a:lnSpc>
              <a:spcBef>
                <a:spcPts val="2251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54A53-A57B-45A9-B601-17B0D66D2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914040" y="584280"/>
            <a:ext cx="7311960" cy="11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914400" y="1904760"/>
            <a:ext cx="7540560" cy="40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79000"/>
          </a:bodyPr>
          <a:p>
            <a:pPr marL="268200" indent="-268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584280" indent="-22320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90288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26396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625040" indent="-1803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625040" indent="-1803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62ACBB-F370-4B52-9ABD-8E3F9A6F497E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"/>
          <p:cNvSpPr/>
          <p:nvPr/>
        </p:nvSpPr>
        <p:spPr>
          <a:xfrm>
            <a:off x="1600200" y="-2209680"/>
            <a:ext cx="9144000" cy="9067680"/>
          </a:xfrm>
          <a:prstGeom prst="diamond">
            <a:avLst/>
          </a:prstGeom>
          <a:gradFill rotWithShape="0">
            <a:gsLst>
              <a:gs pos="0">
                <a:srgbClr val="006666"/>
              </a:gs>
              <a:gs pos="100000">
                <a:srgbClr val="969696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380880" cy="6858000"/>
          </a:xfrm>
          <a:prstGeom prst="rect">
            <a:avLst/>
          </a:prstGeom>
          <a:solidFill>
            <a:srgbClr val="8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380880" cy="2286000"/>
          </a:xfrm>
          <a:prstGeom prst="rect">
            <a:avLst/>
          </a:prstGeom>
          <a:solidFill>
            <a:srgbClr val="cc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dt" idx="4"/>
          </p:nvPr>
        </p:nvSpPr>
        <p:spPr>
          <a:xfrm>
            <a:off x="837720" y="5943240"/>
            <a:ext cx="1901880" cy="31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ftr" idx="5"/>
          </p:nvPr>
        </p:nvSpPr>
        <p:spPr>
          <a:xfrm>
            <a:off x="837720" y="6248160"/>
            <a:ext cx="289260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Num" idx="6"/>
          </p:nvPr>
        </p:nvSpPr>
        <p:spPr>
          <a:xfrm>
            <a:off x="3733560" y="6248160"/>
            <a:ext cx="1901880" cy="453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en-GB" sz="14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937A749E-7A08-44B3-9364-19C98629DFFE}" type="slidenum">
              <a:rPr b="0" lang="en-GB" sz="14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title"/>
          </p:nvPr>
        </p:nvSpPr>
        <p:spPr>
          <a:xfrm>
            <a:off x="456840" y="272520"/>
            <a:ext cx="8226360" cy="114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200" spc="-1" strike="noStrike">
                <a:solidFill>
                  <a:srgbClr val="cc9900"/>
                </a:solidFill>
                <a:latin typeface="Tahoma"/>
              </a:rPr>
              <a:t>Click to edit the title text forma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body"/>
          </p:nvPr>
        </p:nvSpPr>
        <p:spPr>
          <a:xfrm>
            <a:off x="456840" y="1604880"/>
            <a:ext cx="82263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0000"/>
          </a:bodyPr>
          <a:p>
            <a:pPr marL="305640" indent="-3056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665640" indent="-2541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2" marL="102852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3" marL="144000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–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4" marL="1851480" indent="-20556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5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6" marL="1851480" indent="-205560">
              <a:lnSpc>
                <a:spcPct val="102000"/>
              </a:lnSpc>
              <a:spcBef>
                <a:spcPts val="2251"/>
              </a:spcBef>
              <a:buClr>
                <a:srgbClr val="000000"/>
              </a:buClr>
              <a:buFont typeface="Tahoma"/>
              <a:buChar char="»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www.judoscript.com/articles/junit_framework.gif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914400" y="1142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800" spc="-1" strike="noStrike">
                <a:solidFill>
                  <a:srgbClr val="cc9900"/>
                </a:solidFill>
                <a:latin typeface="Tahoma"/>
              </a:rPr>
              <a:t>Junit Training</a:t>
            </a:r>
            <a:endParaRPr b="0" lang="en-US" sz="48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914400" y="3276720"/>
            <a:ext cx="6400800" cy="213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Chris Yeu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>
              <a:lnSpc>
                <a:spcPct val="90000"/>
              </a:lnSpc>
              <a:spcBef>
                <a:spcPts val="2251"/>
              </a:spcBef>
              <a:buNone/>
              <a:tabLst>
                <a:tab algn="l" pos="0"/>
                <a:tab algn="l" pos="457200"/>
                <a:tab algn="l" pos="905040"/>
                <a:tab algn="l" pos="1353960"/>
                <a:tab algn="l" pos="1803240"/>
                <a:tab algn="l" pos="2252520"/>
                <a:tab algn="l" pos="2701800"/>
                <a:tab algn="l" pos="3151080"/>
                <a:tab algn="l" pos="3600360"/>
                <a:tab algn="l" pos="4049640"/>
                <a:tab algn="l" pos="4498920"/>
                <a:tab algn="l" pos="4948200"/>
                <a:tab algn="l" pos="5397480"/>
                <a:tab algn="l" pos="5846760"/>
                <a:tab algn="l" pos="6296040"/>
                <a:tab algn="l" pos="6745320"/>
                <a:tab algn="l" pos="7194600"/>
                <a:tab algn="l" pos="7643880"/>
                <a:tab algn="l" pos="8093160"/>
                <a:tab algn="l" pos="8542440"/>
                <a:tab algn="l" pos="8991720"/>
                <a:tab algn="l" pos="944100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8</a:t>
            </a:r>
            <a:r>
              <a:rPr b="0" lang="en-GB" sz="3000" spc="-1" strike="noStrike" baseline="33000">
                <a:solidFill>
                  <a:srgbClr val="ffffff"/>
                </a:solidFill>
                <a:latin typeface="Tahoma"/>
                <a:ea typeface="MingLiU"/>
              </a:rPr>
              <a:t>th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  <a:ea typeface="MingLiU"/>
              </a:rPr>
              <a:t> Sept, 2006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&lt;JUnit Report&gt;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380880" y="1143000"/>
            <a:ext cx="8458200" cy="39765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899640" y="1414440"/>
            <a:ext cx="7542360" cy="518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Equals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This method is heavily overloaded: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1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and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arg2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must be both objects </a:t>
            </a:r>
            <a:r>
              <a:rPr b="0" i="1" lang="en-GB" sz="2000" spc="-1" strike="noStrike">
                <a:solidFill>
                  <a:srgbClr val="ffffff"/>
                </a:solidFill>
                <a:latin typeface="Tahoma"/>
              </a:rPr>
              <a:t>or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both of the same primitive type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For objects, uses your equals method, </a:t>
            </a:r>
            <a:r>
              <a:rPr b="1" i="1" lang="en-GB" sz="2000" spc="-1" strike="noStrike">
                <a:solidFill>
                  <a:srgbClr val="ffffff"/>
                </a:solidFill>
                <a:latin typeface="Tahoma"/>
              </a:rPr>
              <a:t>if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you have defined it properly, as 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public boolean equals(Object o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--otherwise it uses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refer to the same object (using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==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Same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expected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actual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wo objects do not refer to the same objec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Other assertion method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236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NotNul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, Object 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object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at the object is null</a:t>
            </a:r>
            <a:br>
              <a:rPr sz="2000"/>
            </a:b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4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)</a:t>
            </a:r>
            <a:br>
              <a:rPr sz="2000"/>
            </a:b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fail(String </a:t>
            </a:r>
            <a:r>
              <a:rPr b="1" i="1" lang="en-GB" sz="2000" spc="-1" strike="noStrike">
                <a:solidFill>
                  <a:srgbClr val="7f3f00"/>
                </a:solidFill>
                <a:latin typeface="Tahoma"/>
              </a:rPr>
              <a:t>message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)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auses the test to fail and throw an </a:t>
            </a:r>
            <a:r>
              <a:rPr b="0" lang="en-GB" sz="2000" spc="-1" strike="noStrike">
                <a:solidFill>
                  <a:srgbClr val="7f3f00"/>
                </a:solidFill>
                <a:latin typeface="Trebuchet MS"/>
              </a:rPr>
              <a:t>AssertionFailedError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2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Useful as a result of a complex test, when the other assert methods aren’t quite what you wan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should I tes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27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things which could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should succeed quietl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print “Doing foo…done with foo!”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Negative tests, exceptions and error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at shouldn’t I te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set/get method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2240" indent="-27972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Don’t test the compiler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Fixtur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andle common objects under test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etup() and tearDown() used to initialize and release common objec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to insure there are no side effects between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nforce the test independence rule, test execution order is not guarunte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ecri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7640" y="1979640"/>
            <a:ext cx="7542000" cy="403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39840" indent="-339840">
              <a:lnSpc>
                <a:spcPct val="102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case to test 3 method of java.util.ArrayLis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914400" y="609480"/>
            <a:ext cx="73152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Suit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85440" y="1523520"/>
            <a:ext cx="8077320" cy="4421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100000"/>
              </a:lnSpc>
              <a:spcBef>
                <a:spcPts val="1001"/>
              </a:spcBef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 (String 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 ("All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(new TestSuite (AllTests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 (StringTest.suite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AllTests () throws Exception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 (suite != null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x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Lightweight, quick quiet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un from command line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java StringTest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......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Time: 0.05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Courier New"/>
              </a:rPr>
              <a:t>Tests run: 7,  Failures: 0,  Errors: 0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Runners - Sw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Run with java junit.swingui.TestRunner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2514600" y="2286000"/>
            <a:ext cx="3871800" cy="40006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898200" y="584280"/>
            <a:ext cx="731340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Runners - Eclip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tretch/>
        </p:blipFill>
        <p:spPr>
          <a:xfrm>
            <a:off x="720720" y="1906560"/>
            <a:ext cx="7704000" cy="4753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troduction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83772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is a regression testing framewor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ten by Erich Gamma and Kent Beck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d by developers to implement unit tests in Java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oal: Accelerate programming and increase the quality of code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art of XUnit family (HTTPUnit, Cactus), CppUni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utomating testing (Ant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Junit Tas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arget name="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junit printsummary="yes" fork="ye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pathelement location="${build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formatter usefile="yes" type="plain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test name="AllTests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1800" spc="-1" strike="noStrike">
                <a:solidFill>
                  <a:srgbClr val="ffffff"/>
                </a:solidFill>
                <a:latin typeface="Courier New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Ant Batch mod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6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target name="batchtest" depends="compile-tests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junit printsummary="yes" fork="yes" haltonfailure="no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pathelement location="${build.dir}/test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classpath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ormatter type="plain" usefile="yes"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batchtest fork="yes" todir="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fileset dir="${test.dir}"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include name="**/*Test.java" /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files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batchtes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juni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&lt;/target&gt;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ing for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eparation of interface and implementatio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Allows substitution of implementation to test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Factor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Provides for abstraction of creation of implementations from the tests. 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73200" indent="-25704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Strategy pattern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2" marL="1040040" indent="-207720">
              <a:lnSpc>
                <a:spcPct val="95000"/>
              </a:lnSpc>
              <a:spcBef>
                <a:spcPts val="1049"/>
              </a:spcBef>
              <a:buClr>
                <a:srgbClr val="ffffff"/>
              </a:buClr>
              <a:buFont typeface="Tahoma"/>
              <a:buChar char="•"/>
              <a:tabLst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Because FactoryFinder dynamically resolves desired factory, implementations are plugab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Factori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Courier New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Courier New"/>
              </a:rPr>
              <a:t>new</a:t>
            </a: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 only used in Factory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llows writing tests which can be used across multiple implementation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Promotes frequent testing by writing tests which work against objects without requiring extensive setu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301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 “</a:t>
            </a: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extra-container” testing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53352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sign for testing - Mock Object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hen your implementation requires a resource which is unavailable for testin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ternal system or database is simulat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26160" indent="-32616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nother use of Factory, the mock implementation stubs out and returns the anticipated results from a reques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Example of using Mock Objec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914040" y="1904760"/>
            <a:ext cx="7542360" cy="499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7000"/>
          </a:bodyPr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import org.jmock.*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class PublisherTest extends MockObjectTestCase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c void testOneSubscriberReceivesAMessage() {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set up, subscriber can be any clas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 mockSubscriber = mock(Subscriber.class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 publisher = new Publisher(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add((Subscriber) mockSubscriber.proxy()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final String message = "message"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pectations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mockSubscriber.expects(once()).method("receive").with( eq(message) 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// execute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publisher.publish(message);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    </a:t>
            </a: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Courier New"/>
                <a:ea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89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84000"/>
              </a:lnSpc>
              <a:buClr>
                <a:srgbClr val="ffffff"/>
              </a:buClr>
              <a:buFont typeface="Tahoma"/>
              <a:buChar char="•"/>
              <a:tabLst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Estrangelo Edessa"/>
                <a:ea typeface="Courier New"/>
              </a:rPr>
              <a:t>Of course, you can write mock yourself by implement interface with simple implementa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914400" y="590400"/>
            <a:ext cx="7315200" cy="118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with resources (EJB/DB)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fixtures to request resource connection via factory, could be no-op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Use vm args or resource bundle to drive which factory is us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Data initialization/clearing handled by fixtures to preserve order independence of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400" y="306360"/>
            <a:ext cx="7313760" cy="174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Develop testcase with database using abstract base clas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360360" y="1979640"/>
            <a:ext cx="859320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6699ff"/>
                </a:solidFill>
                <a:latin typeface="Courier New"/>
              </a:rPr>
              <a:t>public abstract class DatabaseTestCase extends TestCase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se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efaultDataManager.setupDefaultData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databaseSetUp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final void 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databaseTearDown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this.getConnection().close()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SetUp() throws SQLException, IO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rotected void databaseTearDown() throws SQLException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public final Connection getConnection() {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return currentContext.connection;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    </a:t>
            </a: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600" spc="-1" strike="noStrike">
                <a:solidFill>
                  <a:srgbClr val="f8f8f8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In-container unit testing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3" name=""/>
          <p:cNvSpPr/>
          <p:nvPr/>
        </p:nvSpPr>
        <p:spPr>
          <a:xfrm>
            <a:off x="507960" y="183204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here are tools like cactus and StrutsTestCase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marL="339840" indent="-339840">
              <a:lnSpc>
                <a:spcPct val="101000"/>
              </a:lnSpc>
              <a:spcBef>
                <a:spcPts val="799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xcellent for testing:</a:t>
            </a:r>
            <a:endParaRPr b="0" lang="en-US" sz="30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EJB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Servlets, Filters, Taglib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739800" indent="-282600">
              <a:lnSpc>
                <a:spcPct val="101000"/>
              </a:lnSpc>
              <a:spcBef>
                <a:spcPts val="7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  <a:ea typeface="MingLiU"/>
              </a:rPr>
              <a:t>Container-dependent frameworks, like Struts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380880" y="380880"/>
            <a:ext cx="8001000" cy="8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86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Best Practices</a:t>
            </a:r>
            <a:endParaRPr b="0" lang="en-US" sz="4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685800" y="1295280"/>
            <a:ext cx="7772400" cy="46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Separate production and test co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But typically in the same packa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Compile into separate trees, allowing deployment without test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Don’t forget OO techniques, base classing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608040" indent="-608040">
              <a:lnSpc>
                <a:spcPct val="90000"/>
              </a:lnSpc>
              <a:spcBef>
                <a:spcPts val="700"/>
              </a:spcBef>
              <a:buClr>
                <a:srgbClr val="6699ff"/>
              </a:buClr>
              <a:buFont typeface="Helvetica"/>
              <a:buChar char="•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Tahoma"/>
              </a:rPr>
              <a:t>Test-driven developme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rite failing test firs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ing for Exception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Fix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Test then Refacto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988920" indent="-531720">
              <a:lnSpc>
                <a:spcPct val="90000"/>
              </a:lnSpc>
              <a:spcBef>
                <a:spcPts val="499"/>
              </a:spcBef>
              <a:buClr>
                <a:srgbClr val="00ffff"/>
              </a:buClr>
              <a:buFont typeface="Tahoma"/>
              <a:buAutoNum type="arabicPeriod"/>
              <a:tabLst>
                <a:tab algn="l" pos="714240"/>
                <a:tab algn="l" pos="1163520"/>
                <a:tab algn="l" pos="1612800"/>
                <a:tab algn="l" pos="2062080"/>
                <a:tab algn="l" pos="2511360"/>
                <a:tab algn="l" pos="2960640"/>
                <a:tab algn="l" pos="3409920"/>
                <a:tab algn="l" pos="3859200"/>
                <a:tab algn="l" pos="4308480"/>
                <a:tab algn="l" pos="4757760"/>
                <a:tab algn="l" pos="5207040"/>
                <a:tab algn="l" pos="5656320"/>
                <a:tab algn="l" pos="6105600"/>
                <a:tab algn="l" pos="6554880"/>
                <a:tab algn="l" pos="7004160"/>
                <a:tab algn="l" pos="7453440"/>
                <a:tab algn="l" pos="7902720"/>
                <a:tab algn="l" pos="8352000"/>
                <a:tab algn="l" pos="8801280"/>
                <a:tab algn="l" pos="92502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  <a:ea typeface="MingLiU"/>
              </a:rPr>
              <a:t>Where should I put my test files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y test?  Why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040" y="1676160"/>
            <a:ext cx="7543800" cy="426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Automated tests prove features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retain their value over time and allows others to prove the software still works (as tested)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onfidence, quality, sleep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Effective, open source, integrated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Get to code sooner by writing tests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rite failing test first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your test first, or at least at the same time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what can break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reate new tests to show bugs then fix the bu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9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 driven development says write the test then make it pass by coding to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ing for Exception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34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ExpectException(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ull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"abcd"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ry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toString(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fail("Should see null pointer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catch(NullPointerException ex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10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Fix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Bugs occasionally slip through (gasp!)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Write a test first which demonstrates the error.  Obviously, this test is needed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Now, fix the bug and watch the bar go green!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19320" indent="-31932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Your tests assure the bug won’t reappear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then Refactor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147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Once the code is written you want to improve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Changes for performance, maintainability, readability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Tests help you make sure you don’t break it while improving it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6240" indent="-3362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Small change, test, small change, test..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914400" y="582120"/>
            <a:ext cx="7313760" cy="119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7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ere should I put my test files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539280" y="1833480"/>
            <a:ext cx="7559640" cy="4848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9000"/>
          </a:bodyPr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500" spc="-1" strike="noStrike">
                <a:solidFill>
                  <a:srgbClr val="ffffff"/>
                </a:solidFill>
                <a:latin typeface="Tahoma"/>
              </a:rPr>
              <a:t>You can place your tests in the same package and directory as the classes under test. For example: </a:t>
            </a:r>
            <a:endParaRPr b="0" lang="en-US" sz="15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An arguably better way is to place the tests in a separate parallel directory structure with package alignment.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For example: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rc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.java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test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com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xyz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        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SomeClassTest.java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1000"/>
              </a:lnSpc>
              <a:buNone/>
              <a:tabLst>
                <a:tab algn="l" pos="0"/>
                <a:tab algn="l" pos="106200"/>
                <a:tab algn="l" pos="555480"/>
                <a:tab algn="l" pos="1004760"/>
                <a:tab algn="l" pos="1454040"/>
                <a:tab algn="l" pos="1903320"/>
                <a:tab algn="l" pos="2352600"/>
                <a:tab algn="l" pos="2801880"/>
                <a:tab algn="l" pos="3251160"/>
                <a:tab algn="l" pos="3700440"/>
                <a:tab algn="l" pos="4149720"/>
                <a:tab algn="l" pos="4599000"/>
                <a:tab algn="l" pos="5048280"/>
                <a:tab algn="l" pos="5497560"/>
                <a:tab algn="l" pos="5946840"/>
                <a:tab algn="l" pos="6396120"/>
                <a:tab algn="l" pos="6845400"/>
                <a:tab algn="l" pos="7294680"/>
                <a:tab algn="l" pos="7743960"/>
                <a:tab algn="l" pos="8193240"/>
                <a:tab algn="l" pos="86425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Tahoma"/>
              </a:rPr>
              <a:t>These approaches allow the tests to access to all the public and package visible methods of the classes under test.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Resource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3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junit.org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.xprogramming.com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www-106.ibm.com/developerworks/java/library/j-junitmail/index.html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2251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Tahoma"/>
              </a:rPr>
              <a:t>http://jakarta.apache.org/ant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What is Junit?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Test framework provides tools for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ssertion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unning tes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aggregating tests (suites)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reporting results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Philosophy always the same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Let developers write test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Make it easy and painless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Test early and test often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Test infected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914040" y="1599840"/>
            <a:ext cx="7543800" cy="457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t’s a Good Thing, no penicillin needed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Immediate gratification with build iteration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Start with “The Simplest Thing That Could Possibly Work”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terate by successive application of design pattern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Break the cycle of more pressure == fewer tests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333000" indent="-333000">
              <a:lnSpc>
                <a:spcPct val="100000"/>
              </a:lnSpc>
              <a:spcBef>
                <a:spcPts val="1950"/>
              </a:spcBef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600" spc="-1" strike="noStrike">
                <a:solidFill>
                  <a:srgbClr val="ffffff"/>
                </a:solidFill>
                <a:latin typeface="Tahoma"/>
              </a:rPr>
              <a:t>Reduce code captivity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lvl="1" marL="724680" indent="-276840">
              <a:lnSpc>
                <a:spcPct val="100000"/>
              </a:lnSpc>
              <a:spcBef>
                <a:spcPts val="1100"/>
              </a:spcBef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Tahoma"/>
              </a:rPr>
              <a:t>If others can test it, others can work on it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914040" y="1905120"/>
            <a:ext cx="7543800" cy="409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ubclass of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Case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verride th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etUp() &amp; tearDown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one or more publ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testXXX()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methods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Exercise the object(s) under test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Asserts the expected resul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Define a static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suite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factory method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-28260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–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GB" sz="2000" spc="-1" strike="noStrike">
                <a:solidFill>
                  <a:srgbClr val="ffffff"/>
                </a:solidFill>
                <a:latin typeface="Tahoma"/>
              </a:rPr>
              <a:t>Create a TestSuite containing all the tests.</a:t>
            </a:r>
            <a:r>
              <a:rPr b="0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-339840"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buClr>
                <a:srgbClr val="ffffff"/>
              </a:buClr>
              <a:buFont typeface="Tahoma"/>
              <a:buChar char="•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Optionally define </a:t>
            </a:r>
            <a:r>
              <a:rPr b="1" lang="en-GB" sz="2400" spc="-1" strike="noStrike">
                <a:solidFill>
                  <a:srgbClr val="ffffff"/>
                </a:solidFill>
                <a:latin typeface="Courier New"/>
              </a:rPr>
              <a:t>main()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to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0" lang="en-GB" sz="2400" spc="-1" strike="noStrike">
                <a:solidFill>
                  <a:srgbClr val="ffffff"/>
                </a:solidFill>
                <a:latin typeface="Tahoma"/>
              </a:rPr>
              <a:t>run the TestCase in batch mode</a:t>
            </a: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.</a:t>
            </a:r>
            <a:r>
              <a:rPr b="0" lang="en-GB" sz="24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400" y="584280"/>
            <a:ext cx="7313760" cy="1195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86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Junit Mechanics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pic>
        <p:nvPicPr>
          <p:cNvPr id="110" name="" descr="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971640" y="1600200"/>
            <a:ext cx="7129440" cy="45655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200" spc="-1" strike="noStrike">
                <a:solidFill>
                  <a:srgbClr val="cc9900"/>
                </a:solidFill>
                <a:latin typeface="Tahoma"/>
              </a:rPr>
              <a:t>Simple Testcase</a:t>
            </a:r>
            <a:endParaRPr b="0" lang="en-US" sz="42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914040" y="1676520"/>
            <a:ext cx="75438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class StringTest extends TestCase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setUp(){ /* run before */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rotected void tearDown(){ /* after */ 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void testSimpleAdd() 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1 = new String(“abcd”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s2 = new String(“abcd”);      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assertTrue(“Strings not equal”,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     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1.equals(s2)); 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void main(String[] args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junit.textui.TestRunner.run (suite (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0">
              <a:lnSpc>
                <a:spcPct val="10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39800" indent="0">
              <a:lnSpc>
                <a:spcPct val="90000"/>
              </a:lnSpc>
              <a:buNone/>
              <a:tabLst>
                <a:tab algn="l" pos="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4312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0c0c0"/>
            </a:gs>
            <a:gs pos="100000">
              <a:srgbClr val="00666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400" y="609120"/>
            <a:ext cx="73152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cc9900"/>
                </a:solidFill>
                <a:latin typeface="Tahoma"/>
              </a:rPr>
              <a:t>Simple Testcase (cont.)</a:t>
            </a:r>
            <a:endParaRPr b="0" lang="en-US" sz="3500" spc="-1" strike="noStrike">
              <a:solidFill>
                <a:srgbClr val="cc99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914040" y="1600200"/>
            <a:ext cx="7543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public static Test suite (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 = new TestSuite (”StringTest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 tests = System.getProperty("tests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if (tests == null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TestSuite(StringTest.class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else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 tokens = 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okenizer(tests, ","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while (tokens.hasMoreTokens()){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uite.addTest(new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	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StringTest((String)tokens.nextToken()))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  </a:t>
            </a: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return sui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39840" indent="0">
              <a:lnSpc>
                <a:spcPct val="90000"/>
              </a:lnSpc>
              <a:buNone/>
              <a:tabLst>
                <a:tab algn="l" pos="0"/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>JUNIT presentation</dc:title>
</cp:coreProperties>
</file>