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Shephred's%20Hymn%20(Romanian%20Panpipes)%20(Ron%20Korb)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000-99E0-4B72-A484-E8012D53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FED-1EB0-45C6-A130-E52ED050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DF9-E598-4610-A52A-32C7597D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4C9-A61C-40AA-97A8-FB920DC2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3C20-70C0-4400-AE7D-CA260A70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9FB-B183-4376-8DF0-ED855484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6E8-D458-472D-B11A-E0AFB7E8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D7A-E838-4021-AC96-B1C99C2A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95A-24F2-428D-AFFD-A7FDD6B7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9F5-9DB3-4DBD-A7F1-0C9EF700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69C-D120-483D-982E-4E235D35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0D2-7B34-473E-809E-6FD6C7B0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9C1E-CEA3-48A3-AE9E-005D08D981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hephred&apos;s%20Hymn%20(Romanian%20Panpipes)%20(Ron%20Korb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641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e photographe indonésien, né dans l’île de Jakarta, affirme que son pays est l’un des meilleurs endroits du monde pour un amoureux  de la photographie. À cause de l'impressionnante beauté des milliers d'îles de l’archi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À vrai dire, Rarindra photographierait dans bien d’autres endroits du monde indépendament de la raison et du li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1%20rarinda%2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1%20rarinda%2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%20rarinda%20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%20rarinda%20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%20rarinda%20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%20rarinda%2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1%20rarinda%2014a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1%20rarinda%2015" descr=""/>
          <p:cNvPicPr/>
          <p:nvPr/>
        </p:nvPicPr>
        <p:blipFill>
          <a:blip r:embed="rId1"/>
          <a:stretch/>
        </p:blipFill>
        <p:spPr>
          <a:xfrm>
            <a:off x="-457200" y="-235080"/>
            <a:ext cx="10134720" cy="70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1%20rarinda%2016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1%20rarinda%20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544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e image peut transmettre des sensations par la lumière, la couleur, la texture, et bien sûr par le contenu qu’elle mo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is si cette image est améliorée avec des détails techniques qui lui apportent une sensation de profondeur, de troisième dimension, la chose déjà change sur le plan de la perf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%20rarinda%201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1%20rarinda%2019" descr="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2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%20rarinda%2020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%20rarinda%2021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1%20rarinda%202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1%20rarinda%202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1%20rarinda%2024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01%20rarinda%2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1%20rarinda%2026" descr=""/>
          <p:cNvPicPr/>
          <p:nvPr/>
        </p:nvPicPr>
        <p:blipFill>
          <a:blip r:embed="rId1"/>
          <a:stretch/>
        </p:blipFill>
        <p:spPr>
          <a:xfrm>
            <a:off x="609480" y="-3240"/>
            <a:ext cx="79250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1%20rarinda%202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’est donc la technique qu’utilise Rarindra Prakarsa après avoir photographier ; il travaille certains éléments pour donner une plus grande dimension à ses trav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us ne me croirez pas, mais le timide Rarindra ne se considère pas comme un photographe professionne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1%20rarinda%202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1%20rarinda%202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1%20rarinda%203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1%20rarinda%203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1%20rarinda%203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1%20rarinda%203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%20rarinda%203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1%20rarinda%2037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1%20rarinda%2039" descr=""/>
          <p:cNvPicPr/>
          <p:nvPr/>
        </p:nvPicPr>
        <p:blipFill>
          <a:blip r:embed="rId1"/>
          <a:stretch/>
        </p:blipFill>
        <p:spPr>
          <a:xfrm>
            <a:off x="914400" y="-12600"/>
            <a:ext cx="73152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Consideraçõ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486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Rarindra PRAKA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%20rarind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%20rarinda%2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%20rarinda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1%20rarinda%205" descr=""/>
          <p:cNvPicPr/>
          <p:nvPr/>
        </p:nvPicPr>
        <p:blipFill>
          <a:blip r:embed="rId1"/>
          <a:stretch/>
        </p:blipFill>
        <p:spPr>
          <a:xfrm>
            <a:off x="0" y="-392040"/>
            <a:ext cx="9144000" cy="783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%20rarinda%2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%20rarinda%2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3:09:03Z</dcterms:created>
  <dc:creator>Rarindra Prakarsamusi</dc:creator>
  <dc:description>bel 22.11</dc:description>
  <dc:language>en-US</dc:language>
  <cp:lastModifiedBy>C. Moa</cp:lastModifiedBy>
  <dcterms:modified xsi:type="dcterms:W3CDTF">2008-01-06T22:26:08Z</dcterms:modified>
  <cp:revision>4</cp:revision>
  <dc:subject/>
  <dc:title>poésie viusuelle de Rarindra Prakarsamusi</dc:title>
</cp:coreProperties>
</file>