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Shephred's%20Hymn%20(Romanian%20Panpipes)%20(Ron%20Korb)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2C1-AD71-475A-8A99-48B5D474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6C4-135F-4428-9A67-B7A0F17A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1DD-F997-4280-B76E-D01FDA28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EC8-5EDB-44ED-B902-99B4CF3F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AF6-BFC7-431E-8702-44A45B5E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2F6-3F08-43CC-BE60-A7BCA7AA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B05-1962-4717-80BE-CBB47EC1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927-0316-4AC2-A063-31D938B5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784-FF35-442A-97E4-AB1444DB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480-9112-418C-9D02-EC06168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63B-D792-40B2-9F5A-0331EF0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2B7-C920-41DA-97D0-C548F9F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DC5C-E9AC-421D-9CAB-3AEC147DC3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hephred&apos;s%20Hymn%20(Romanian%20Panpipes)%20(Ron%20Korb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641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Ce photographe indonésien, né dans l’île de Jakarta, affirme que son pays est l’un des meilleurs endroits du monde pour un amoureux  de la photographie. À cause de l'impressionnante beauté des milliers d'îles de l’archi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À vrai dire, Rarindra photographierait dans bien d’autres endroits du monde indépendament de la raison et du li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1%20rarinda%20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01%20rarinda%20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%20rarinda%201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%20rarinda%201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1%20rarinda%2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%20rarinda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1%20rarinda%2014a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1%20rarinda%2015" descr=""/>
          <p:cNvPicPr/>
          <p:nvPr/>
        </p:nvPicPr>
        <p:blipFill>
          <a:blip r:embed="rId1"/>
          <a:stretch/>
        </p:blipFill>
        <p:spPr>
          <a:xfrm>
            <a:off x="-457200" y="-235080"/>
            <a:ext cx="10134720" cy="70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1%20rarinda%2016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1%20rarinda%201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544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Une image peut transmettre des sensations par la lumière, la couleur, la texture, et bien sûr par le contenu qu’elle mon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Mais si cette image est améliorée avec des détails techniques qui lui apportent une sensation de profondeur, de troisième dimension, la chose déjà change sur le plan de la perf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%20rarinda%2018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%20rarinda%2019" descr=""/>
          <p:cNvPicPr/>
          <p:nvPr/>
        </p:nvPicPr>
        <p:blipFill>
          <a:blip r:embed="rId1"/>
          <a:stretch/>
        </p:blipFill>
        <p:spPr>
          <a:xfrm>
            <a:off x="0" y="-189000"/>
            <a:ext cx="9144000" cy="723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%20rarinda%2020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%20rarinda%2021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1%20rarinda%202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1%20rarinda%202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%20rarinda%2024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01%20rarinda%2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1%20rarinda%2026" descr=""/>
          <p:cNvPicPr/>
          <p:nvPr/>
        </p:nvPicPr>
        <p:blipFill>
          <a:blip r:embed="rId1"/>
          <a:stretch/>
        </p:blipFill>
        <p:spPr>
          <a:xfrm>
            <a:off x="609480" y="-3240"/>
            <a:ext cx="79250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1%20rarinda%202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La poésie visuelle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C’est donc la technique qu’utilise Rarindra Prakarsa après avoir photographier ; il travaille certains éléments pour donner une plus grande dimension à s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Vous ne me croirez pas, mais le timide Rarindra ne se considère pas comme un photographe professionne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06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Rarindra PRAKA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1%20rarinda%2028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%20rarinda%2029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1%20rarinda%2030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1%20rarinda%203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1%20rarinda%2032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1%20rarinda%203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%20rarinda%2034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%20rarinda%2037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1%20rarinda%2039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152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1%20rarinda%201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ff"/>
                </a:solidFill>
                <a:latin typeface="Arial"/>
              </a:rPr>
              <a:t>Consideraçõ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486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00"/>
                </a:solidFill>
                <a:latin typeface="Arial"/>
              </a:rPr>
              <a:t>Rarindra PRAKA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1%20rarinda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1%20rarinda%203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%20rarinda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01%20rarinda%205" descr=""/>
          <p:cNvPicPr/>
          <p:nvPr/>
        </p:nvPicPr>
        <p:blipFill>
          <a:blip r:embed="rId1"/>
          <a:stretch/>
        </p:blipFill>
        <p:spPr>
          <a:xfrm>
            <a:off x="0" y="-392040"/>
            <a:ext cx="9144000" cy="78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%20rarinda%206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1%20rarinda%207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3:09:03Z</dcterms:created>
  <dc:creator>Rarindra Prakarsamusi</dc:creator>
  <dc:description>bel 22.11</dc:description>
  <dc:language>en-US</dc:language>
  <cp:lastModifiedBy>C. Moa</cp:lastModifiedBy>
  <dcterms:modified xsi:type="dcterms:W3CDTF">2008-01-06T22:26:08Z</dcterms:modified>
  <cp:revision>4</cp:revision>
  <dc:subject/>
  <dc:title>poésie viusuelle de Rarindra Prakarsamusi</dc:title>
</cp:coreProperties>
</file>