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2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Shephred's%20Hymn%20(Romanian%20Panpipes)%20(Ron%20Korb).wav" ContentType="audio/x-wav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CD3F-D7AF-429B-B5B6-53CD86A32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244B-6994-42A0-AFBB-C135D76CB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3D7A-0E94-4EA2-88F5-87173647D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7300-AA36-4F4C-A05A-E7C04D42C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C734-F6EE-4CF7-A22C-2AB592501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1358-303A-4F16-A4E7-BC1BA906F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2187-FA0C-4ABB-BF3A-EB30593C4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73E6-1662-4EA2-A632-68FA376A5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2BDE-2F73-4736-8D60-6A5E2BBCD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CCB9-F686-4781-8E44-83DEA100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6FE2-853C-4CCF-BBD5-565BB163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803B-629E-4DA2-9D57-58BE8A0E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23FB6-5EC9-4AAC-AF75-34F60C5F6C5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hephred&apos;s%20Hymn%20(Romanian%20Panpipes)%20(Ron%20Korb)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01%20rarinda%201" descr=""/>
          <p:cNvPicPr/>
          <p:nvPr/>
        </p:nvPicPr>
        <p:blipFill>
          <a:blip r:embed="rId1"/>
          <a:stretch/>
        </p:blipFill>
        <p:spPr>
          <a:xfrm>
            <a:off x="3429000" y="9144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182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ff"/>
                </a:solidFill>
                <a:latin typeface="Arial"/>
              </a:rPr>
              <a:t>La poésie visuelle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164120"/>
            <a:ext cx="91440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Ce photographe indonésien, né dans l’île de Jakarta, affirme que son pays est l’un des meilleurs endroits du monde pour un amoureux  de la photographie. À cause de l'impressionnante beauté des milliers d'îles de l’archip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À vrai dire, Rarindra photographierait dans bien d’autres endroits du monde indépendament de la raison et du lie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306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ff"/>
                </a:solidFill>
                <a:latin typeface="Arial"/>
              </a:rPr>
              <a:t>Rarindra PRAKAR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01%20rarinda%208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01%20rarinda%209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01%20rarinda%2010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01%20rarinda%2011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01%20rarinda%20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01%20rarinda%20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01%20rarinda%2014a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01%20rarinda%2015" descr=""/>
          <p:cNvPicPr/>
          <p:nvPr/>
        </p:nvPicPr>
        <p:blipFill>
          <a:blip r:embed="rId1"/>
          <a:stretch/>
        </p:blipFill>
        <p:spPr>
          <a:xfrm>
            <a:off x="-457200" y="-235080"/>
            <a:ext cx="10134720" cy="709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01%20rarinda%2016" descr=""/>
          <p:cNvPicPr/>
          <p:nvPr/>
        </p:nvPicPr>
        <p:blipFill>
          <a:blip r:embed="rId1"/>
          <a:stretch/>
        </p:blipFill>
        <p:spPr>
          <a:xfrm>
            <a:off x="0" y="-114480"/>
            <a:ext cx="9144000" cy="708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01%20rarinda%2017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01%20rarinda%201" descr=""/>
          <p:cNvPicPr/>
          <p:nvPr/>
        </p:nvPicPr>
        <p:blipFill>
          <a:blip r:embed="rId1"/>
          <a:stretch/>
        </p:blipFill>
        <p:spPr>
          <a:xfrm>
            <a:off x="3429000" y="9144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182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ff"/>
                </a:solidFill>
                <a:latin typeface="Arial"/>
              </a:rPr>
              <a:t>La poésie visuelle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4254480"/>
            <a:ext cx="9144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Une image peut transmettre des sensations par la lumière, la couleur, la texture, et bien sûr par le contenu qu’elle mont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Mais si cette image est améliorée avec des détails techniques qui lui apportent une sensation de profondeur, de troisième dimension, la chose déjà change sur le plan de la perf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306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ff"/>
                </a:solidFill>
                <a:latin typeface="Arial"/>
              </a:rPr>
              <a:t>Rarindra PRAKAR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01%20rarinda%2018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01%20rarinda%2019" descr=""/>
          <p:cNvPicPr/>
          <p:nvPr/>
        </p:nvPicPr>
        <p:blipFill>
          <a:blip r:embed="rId1"/>
          <a:stretch/>
        </p:blipFill>
        <p:spPr>
          <a:xfrm>
            <a:off x="0" y="-189000"/>
            <a:ext cx="9144000" cy="723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01%20rarinda%2020" descr=""/>
          <p:cNvPicPr/>
          <p:nvPr/>
        </p:nvPicPr>
        <p:blipFill>
          <a:blip r:embed="rId1"/>
          <a:stretch/>
        </p:blipFill>
        <p:spPr>
          <a:xfrm>
            <a:off x="0" y="276120"/>
            <a:ext cx="9144000" cy="630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01%20rarinda%2021" descr=""/>
          <p:cNvPicPr/>
          <p:nvPr/>
        </p:nvPicPr>
        <p:blipFill>
          <a:blip r:embed="rId1"/>
          <a:stretch/>
        </p:blipFill>
        <p:spPr>
          <a:xfrm>
            <a:off x="0" y="325440"/>
            <a:ext cx="9144000" cy="620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01%20rarinda%2022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01%20rarinda%2023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01%20rarinda%2024" descr=""/>
          <p:cNvPicPr/>
          <p:nvPr/>
        </p:nvPicPr>
        <p:blipFill>
          <a:blip r:embed="rId1"/>
          <a:stretch/>
        </p:blipFill>
        <p:spPr>
          <a:xfrm>
            <a:off x="0" y="-31680"/>
            <a:ext cx="9144000" cy="692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01%20rarinda%202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01%20rarinda%2026" descr=""/>
          <p:cNvPicPr/>
          <p:nvPr/>
        </p:nvPicPr>
        <p:blipFill>
          <a:blip r:embed="rId1"/>
          <a:stretch/>
        </p:blipFill>
        <p:spPr>
          <a:xfrm>
            <a:off x="609480" y="-3240"/>
            <a:ext cx="7925040" cy="686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01%20rarinda%2027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01%20rarinda%201" descr=""/>
          <p:cNvPicPr/>
          <p:nvPr/>
        </p:nvPicPr>
        <p:blipFill>
          <a:blip r:embed="rId1"/>
          <a:stretch/>
        </p:blipFill>
        <p:spPr>
          <a:xfrm>
            <a:off x="3429000" y="9144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82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ff"/>
                </a:solidFill>
                <a:latin typeface="Arial"/>
              </a:rPr>
              <a:t>La poésie visuelle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4267080"/>
            <a:ext cx="9144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C’est donc la technique qu’utilise Rarindra Prakarsa après avoir photographier ; il travaille certains éléments pour donner une plus grande dimension à ses trava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Vous ne me croirez pas, mais le timide Rarindra ne se considère pas comme un photographe professionnel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306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ff"/>
                </a:solidFill>
                <a:latin typeface="Arial"/>
              </a:rPr>
              <a:t>Rarindra PRAKAR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01%20rarinda%2028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01%20rarinda%2029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01%20rarinda%2030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01%20rarinda%2031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01%20rarinda%2032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01%20rarinda%2033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01%20rarinda%2034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01%20rarinda%2037" descr=""/>
          <p:cNvPicPr/>
          <p:nvPr/>
        </p:nvPicPr>
        <p:blipFill>
          <a:blip r:embed="rId1"/>
          <a:stretch/>
        </p:blipFill>
        <p:spPr>
          <a:xfrm>
            <a:off x="106668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01%20rarinda%2039" descr=""/>
          <p:cNvPicPr/>
          <p:nvPr/>
        </p:nvPicPr>
        <p:blipFill>
          <a:blip r:embed="rId1"/>
          <a:stretch/>
        </p:blipFill>
        <p:spPr>
          <a:xfrm>
            <a:off x="914400" y="-12600"/>
            <a:ext cx="7315200" cy="688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01%20rarinda%201" descr=""/>
          <p:cNvPicPr/>
          <p:nvPr/>
        </p:nvPicPr>
        <p:blipFill>
          <a:blip r:embed="rId1"/>
          <a:stretch/>
        </p:blipFill>
        <p:spPr>
          <a:xfrm>
            <a:off x="3429000" y="9144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1911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ff"/>
                </a:solidFill>
                <a:latin typeface="Arial"/>
              </a:rPr>
              <a:t>Considerações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54864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ff00"/>
                </a:solidFill>
                <a:latin typeface="Arial"/>
              </a:rPr>
              <a:t>Rarindra PRAKAR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01%20rarinda%2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01%20rarinda%203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01%20rarinda%20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8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01%20rarinda%205" descr=""/>
          <p:cNvPicPr/>
          <p:nvPr/>
        </p:nvPicPr>
        <p:blipFill>
          <a:blip r:embed="rId1"/>
          <a:stretch/>
        </p:blipFill>
        <p:spPr>
          <a:xfrm>
            <a:off x="0" y="-392040"/>
            <a:ext cx="9144000" cy="783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01%20rarinda%206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01%20rarinda%207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1T23:09:03Z</dcterms:created>
  <dc:creator>Rarindra Prakarsamusi</dc:creator>
  <dc:description>bel 22.11</dc:description>
  <dc:language>en-US</dc:language>
  <cp:lastModifiedBy>C. Moa</cp:lastModifiedBy>
  <dcterms:modified xsi:type="dcterms:W3CDTF">2008-01-06T22:26:08Z</dcterms:modified>
  <cp:revision>4</cp:revision>
  <dc:subject/>
  <dc:title>poésie viusuelle de Rarindra Prakarsamusi</dc:title>
</cp:coreProperties>
</file>