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Shephred's%20Hymn%20(Romanian%20Panpipes)%20(Ron%20Korb).wav" ContentType="audio/x-wav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BDC-1A48-476F-A4C9-E23BA7DC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C9E-C715-4BFE-A14B-2C3E28B8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D44-B6B0-4561-90C0-87BB39AC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EA6-B851-4FA7-B027-E1F3FF1F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3CA-A4F0-43B7-848B-4E5D785B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725-0D47-4F6A-B870-B9B726AD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E8C-1B2C-4746-BDE7-3D650AE3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36F-B893-43FF-BD33-FAA6E726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747-FD2B-40A1-8884-51C03728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261-15A5-4A2D-B7EA-378B4410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765-5D36-44FF-B3B7-1A8F666E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CAAC-0642-4B8E-8A2A-48B27C4D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3CEC-579B-4640-AA3B-A5DC0319D3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hephred&apos;s%20Hymn%20(Romanian%20Panpipes)%20(Ron%20Korb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641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Ce photographe indonésien, né dans l’île de Jakarta, affirme que son pays est l’un des meilleurs endroits du monde pour un amoureux  de la photographie. À cause de l'impressionnante beauté des milliers d'îles de l’archi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À vrai dire, Rarindra photographierait dans bien d’autres endroits du monde indépendament de la raison et du li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1%20rarinda%2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1%20rarinda%2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%20rarinda%20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01%20rarinda%20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1%20rarinda%20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%20rarinda%2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1%20rarinda%2014a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1%20rarinda%2015" descr=""/>
          <p:cNvPicPr/>
          <p:nvPr/>
        </p:nvPicPr>
        <p:blipFill>
          <a:blip r:embed="rId1"/>
          <a:stretch/>
        </p:blipFill>
        <p:spPr>
          <a:xfrm>
            <a:off x="-457200" y="-235080"/>
            <a:ext cx="10134720" cy="70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1%20rarinda%2016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708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01%20rarinda%201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544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Une image peut transmettre des sensations par la lumière, la couleur, la texture, et bien sûr par le contenu qu’elle mon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Mais si cette image est améliorée avec des détails techniques qui lui apportent une sensation de profondeur, de troisième dimension, la chose déjà change sur le plan de la perf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%20rarinda%2018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1%20rarinda%2019" descr="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2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1%20rarinda%2020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%20rarinda%2021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1%20rarinda%202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01%20rarinda%202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1%20rarinda%2024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01%20rarinda%20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1%20rarinda%2026" descr=""/>
          <p:cNvPicPr/>
          <p:nvPr/>
        </p:nvPicPr>
        <p:blipFill>
          <a:blip r:embed="rId1"/>
          <a:stretch/>
        </p:blipFill>
        <p:spPr>
          <a:xfrm>
            <a:off x="609480" y="-3240"/>
            <a:ext cx="792504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1%20rarinda%202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670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’est donc la technique qu’utilise Rarindra Prakarsa après avoir photographier ; il travaille certains éléments pour donner une plus grande dimension à ses trava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Vous ne me croirez pas, mais le timide Rarindra ne se considère pas comme un photographe professionne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01%20rarinda%202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1%20rarinda%202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1%20rarinda%203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1%20rarinda%203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1%20rarinda%203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1%20rarinda%203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1%20rarinda%203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1%20rarinda%2037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1%20rarinda%2039" descr=""/>
          <p:cNvPicPr/>
          <p:nvPr/>
        </p:nvPicPr>
        <p:blipFill>
          <a:blip r:embed="rId1"/>
          <a:stretch/>
        </p:blipFill>
        <p:spPr>
          <a:xfrm>
            <a:off x="914400" y="-12600"/>
            <a:ext cx="73152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Consideraçõ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486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rial"/>
              </a:rPr>
              <a:t>Rarindra PRAKA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1%20rarind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%20rarinda%2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1%20rarinda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1%20rarinda%205" descr=""/>
          <p:cNvPicPr/>
          <p:nvPr/>
        </p:nvPicPr>
        <p:blipFill>
          <a:blip r:embed="rId1"/>
          <a:stretch/>
        </p:blipFill>
        <p:spPr>
          <a:xfrm>
            <a:off x="0" y="-392040"/>
            <a:ext cx="9144000" cy="783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%20rarinda%2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1%20rarinda%2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3:09:03Z</dcterms:created>
  <dc:creator>Rarindra Prakarsamusi</dc:creator>
  <dc:description>bel 22.11</dc:description>
  <dc:language>en-US</dc:language>
  <cp:lastModifiedBy>C. Moa</cp:lastModifiedBy>
  <dcterms:modified xsi:type="dcterms:W3CDTF">2008-01-06T22:26:08Z</dcterms:modified>
  <cp:revision>4</cp:revision>
  <dc:subject/>
  <dc:title>poésie viusuelle de Rarindra Prakarsamusi</dc:title>
</cp:coreProperties>
</file>