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696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74880" y="4594320"/>
            <a:ext cx="5365440" cy="427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D7A5D45A-5269-4ADD-B928-B885754D3BDB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997E7E76-4300-4D4D-AB89-49ACFC1212DB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51080" y="8967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D527-9CE8-400F-A6E1-8DD4E23B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3E61-3FD4-4011-8ECA-FFD487B7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9ED-36EF-4C52-BCD8-1DD2D72D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6084-C132-4636-BE39-900C4FF4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C96-38D8-4FA3-BC12-1BC69582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31FC-7EB3-4B1D-9E6C-1209EBA6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D67-AF9E-4AE2-AB5E-8571EA39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74B0-4117-4DDE-B82B-8E8A30BD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-64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1C4-33C7-494C-AF0E-1A038A1D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8D0-F8EF-4E37-897C-265AD85D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1DB6-DCB2-4EC8-9BA0-0A410136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27F-62A4-456F-B4EA-B5010978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1CD0-1475-40F9-AD55-26846B5FC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68360" y="1125360"/>
            <a:ext cx="8207280" cy="216000"/>
            <a:chOff x="468360" y="1125360"/>
            <a:chExt cx="8207280" cy="216000"/>
          </a:xfrm>
        </p:grpSpPr>
        <p:sp>
          <p:nvSpPr>
            <p:cNvPr id="6" name=""/>
            <p:cNvSpPr/>
            <p:nvPr/>
          </p:nvSpPr>
          <p:spPr>
            <a:xfrm>
              <a:off x="468360" y="1125360"/>
              <a:ext cx="8207280" cy="216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8360" y="1125360"/>
              <a:ext cx="216000" cy="216000"/>
            </a:xfrm>
            <a:prstGeom prst="rect">
              <a:avLst/>
            </a:prstGeom>
            <a:solidFill>
              <a:srgbClr val="f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4360" y="1125360"/>
              <a:ext cx="215640" cy="216000"/>
            </a:xfrm>
            <a:prstGeom prst="rect">
              <a:avLst/>
            </a:prstGeom>
            <a:solidFill>
              <a:srgbClr val="0000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00000" y="1125360"/>
              <a:ext cx="216000" cy="216000"/>
            </a:xfrm>
            <a:prstGeom prst="rect">
              <a:avLst/>
            </a:prstGeom>
            <a:solidFill>
              <a:srgbClr val="00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1600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964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855440"/>
            <a:ext cx="86104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3933720"/>
            <a:ext cx="9144000" cy="29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Bo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developsens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Canada IT Co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fact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eer our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dify human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Tom DeMar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4724280"/>
            <a:ext cx="8497800" cy="94716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rco wonders if we, as an industry, are too focused on behaviour mod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4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natural laws (thir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fine and to tune (secon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he damned thing built (first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Jerry Wei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373720"/>
            <a:ext cx="8642160" cy="11912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nberg suggests that, as an industry, we’re obsessed with trying to make third- and second-order measurements, when first-order measurements are more often what we n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06292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measurement depends up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kill at observa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’re compar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validity of the mode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e’re using for assess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56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and assessments aren’t necessarily numer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ine #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9280" y="3886200"/>
            <a:ext cx="878544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ren’t as descrip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ords and storie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can be vague or ambiguou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umbers without clarifying wor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just as bad or w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45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in our field make sweeping, pseudo-statistical generalizations without proposing a measurement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670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eople in the testing and quality field haven’t studied measurement theory or statistics, but some of us are asked to implement measurement programs any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ften validate our assumptions with trivial surveys and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statistical work depends on isolating the dependent variables, and reducing or controlling the independent (free)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ftware development metrics, identifying the dependent variables is tough, and reducing or controlling all of the independent (free) variables is effectively im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determined that there are large numbers of mines buried in the metrics mine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omething can’t be proven, making predictions about it is somehow unsatisf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on method of calculating risk as “impact times probability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just we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untold numbers of biases and errors involved with collecting and analyzing metr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metrics se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ally subjec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ification err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7850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is usually a sampling exercise.  It’s easy to sample ba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collect metrics on projects, we tend to leave out certai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ics often outlive their use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etrics are focused on tracking cost.  Few metrics are oriented towards tracking bene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ics are collected for someone’s purpose.  The metrics can and will be gamed to further that purp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sometimes li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hey sometimes leave out the truth.  Or they provide an answer that they think the questioner wants to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report on what some of our best minesweepers have discovered so far, with a few suggestions on how we might avoid or clear some of the m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measure people, they change their behaviour in ways that we might not expect or int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for statistics to work properly, we need a good population size and a good sample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researchers, whom we might expect to do better science, can do so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ddy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f the following ide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heuristic approach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ggestion, not an in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roduce, offer or accept a number without a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give a number to a bureaucr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m’s Second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 stories and narr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ol metr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re linked to pay, bonuses, performance evalu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metrics are metrics that trigger some action, usually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ric that is used to control something will eventually be used to control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quir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quiry metrics are metrics that prompt us to ask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 measurement when the metric stops 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sults aren’t satisfactory, try measuring something else for a 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fer Assessment to Measur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eel that you have to render everything into a numeric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 can go directly to assessment without quantified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modes, beside numerical ones, can you use to assess prog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Modes of Assess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standup meetings or sc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meetings that identify needs for further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laddering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, rather than meas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emperature r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e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zz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s and wi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e ways in which data can be converted to information,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ways ask “Compared to what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Software Management, Vol. 2., “First Order Measure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ld M. Wein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Lie with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rell H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Expla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ward Tuf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ak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hen Leavi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ntion is not to suggest that metrics are useless, but to identify some examples of gross dysfunction, and to try to avoi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Software Cost So Mu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DeMar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of 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Le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aner.com/pdfs/metrics2004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89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field sometimes seems obsessed with metrics, but doesn’t seem to pay much attention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 valid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Metrics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34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uthored by 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several definitions of measurement, most of which seem to amount to “using numbers to describe something” or “putting a number on some attribu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er and Bond’s synthesized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5084640"/>
            <a:ext cx="8642160" cy="1410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is the empirical, objective assignment of numbers, according to a rule derived from a model or theory, to attributes of objects or events with the intent of describing th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always has some model lurking in the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 models are based on some comparison, which may be explicit or im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a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lements in a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 over time (r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derivative metrics by performing multiple measurements and comparisons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820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in our motive for measurement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ode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ari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in accordance with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835344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ing private self-assessment and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project status (to facilitate management of the project or related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staf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others (e.g. potential customers) about the characteristics (such as development status or behavior)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external authorities (e.g. regulators or litigators) about the characteristics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Kaner an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42:32Z</dcterms:created>
  <dc:creator>Michael Bolton</dc:creator>
  <dc:description/>
  <dc:language>en-US</dc:language>
  <cp:lastModifiedBy>Al Lebeau</cp:lastModifiedBy>
  <dcterms:modified xsi:type="dcterms:W3CDTF">2007-03-23T17:14:27Z</dcterms:modified>
  <cp:revision>99</cp:revision>
  <dc:subject/>
  <dc:title>Exploring Exploratory Tes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8152116</vt:r8>
  </property>
  <property fmtid="{D5CDD505-2E9C-101B-9397-08002B2CF9AE}" pid="3" name="_AuthorEmail">
    <vt:lpwstr>Ruth.Neveu@a.statcan.ca</vt:lpwstr>
  </property>
  <property fmtid="{D5CDD505-2E9C-101B-9397-08002B2CF9AE}" pid="4" name="_AuthorEmailDisplayName">
    <vt:lpwstr>Neveu, Ruth - BTS/SCE</vt:lpwstr>
  </property>
  <property fmtid="{D5CDD505-2E9C-101B-9397-08002B2CF9AE}" pid="5" name="_EmailSubject">
    <vt:lpwstr>IT conference</vt:lpwstr>
  </property>
  <property fmtid="{D5CDD505-2E9C-101B-9397-08002B2CF9AE}" pid="6" name="_PreviousAdHocReviewCycleID">
    <vt:r8>1235638151</vt:r8>
  </property>
</Properties>
</file>