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9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gency FB"/>
              </a:rPr>
              <a:t>Click to edit the title text format</a:t>
            </a: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lvl="1" marL="863640" indent="-28728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7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lvl="2" marL="1295280" indent="-215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lvl="3" marL="1727280" indent="-21600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7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lvl="4" marL="2158920" indent="-215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lvl="5" marL="2158920" indent="-215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lvl="6" marL="2158920" indent="-215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ll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3840" y="259992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ff"/>
                </a:solidFill>
                <a:latin typeface="Agency FB"/>
                <a:ea typeface="HG Mincho Light J"/>
              </a:rPr>
              <a:t>XP for One at IBM</a:t>
            </a: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39" name=""/>
          <p:cNvSpPr/>
          <p:nvPr/>
        </p:nvSpPr>
        <p:spPr>
          <a:xfrm flipV="1">
            <a:off x="1089000" y="4978440"/>
            <a:ext cx="8258040" cy="15840"/>
          </a:xfrm>
          <a:prstGeom prst="line">
            <a:avLst/>
          </a:prstGeom>
          <a:ln w="7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41240" y="4721400"/>
            <a:ext cx="860760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  <a:ea typeface="HG Mincho Light J"/>
              </a:rPr>
              <a:t>J. B. Rainsber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  <a:ea typeface="HG Mincho Light J"/>
              </a:rPr>
              <a:t>XP Toronto Users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  <a:ea typeface="HG Mincho Light J"/>
              </a:rPr>
              <a:t>2001 October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ff"/>
                </a:solidFill>
                <a:latin typeface="Agency FB"/>
                <a:ea typeface="HG Mincho Light J"/>
              </a:rPr>
              <a:t>What I think...</a:t>
            </a: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ell MT"/>
              </a:rPr>
              <a:t>Easily the best experience I have ever had developing software</a:t>
            </a:r>
            <a:endParaRPr b="0" lang="en-US" sz="3600" spc="-1" strike="noStrike">
              <a:solidFill>
                <a:srgbClr val="000000"/>
              </a:solidFill>
              <a:latin typeface="Bell MT"/>
            </a:endParaRPr>
          </a:p>
          <a:p>
            <a:pPr marL="414360" indent="-31068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ll MT"/>
              </a:rPr>
              <a:t>Sense of completion became addictive; frighteningly Pavlovian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414360" indent="-31068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ll MT"/>
              </a:rPr>
              <a:t>Making changes any time with confidence is incredibly powerful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414360" indent="-31068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ll MT"/>
              </a:rPr>
              <a:t>Satisfied with what I was able to do; disappointed not to be able to pair program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  <a:p>
            <a:pPr marL="414360" indent="-31068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ll MT"/>
              </a:rPr>
              <a:t>Prospects for doing XP are bleak at best...</a:t>
            </a:r>
            <a:endParaRPr b="0" lang="en-US" sz="32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ff"/>
                </a:solidFill>
                <a:latin typeface="Agency FB"/>
                <a:ea typeface="HG Mincho Light J"/>
              </a:rPr>
              <a:t>Agenda</a:t>
            </a: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11120" y="2101680"/>
            <a:ext cx="569412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ell MT"/>
              </a:rPr>
              <a:t>Environment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ell MT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ell MT"/>
              </a:rPr>
              <a:t>Constraints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ell MT"/>
              </a:rPr>
              <a:t>XP checklist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ell MT"/>
              </a:rPr>
              <a:t>Bad experiences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ell MT"/>
              </a:rPr>
              <a:t>Good experiences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ell MT"/>
              </a:rPr>
              <a:t>What others think...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ell MT"/>
              </a:rPr>
              <a:t>What I think...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ff"/>
                </a:solidFill>
                <a:latin typeface="Agency FB"/>
                <a:ea typeface="HG Mincho Light J"/>
              </a:rPr>
              <a:t>Environment</a:t>
            </a: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56800" y="2085840"/>
            <a:ext cx="830124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IBM Toronto Lab, Markham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2500 people in one building; four floors, four “fingers”; 400-meter walk from one end to the other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Individual offices; 2-meter walls; sliding whiteboard doors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Plenty of toys: foosball, ping pong, Unreal Tournament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Four “team rooms” per floor per finger, but no open development area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ff"/>
                </a:solidFill>
                <a:latin typeface="Agency FB"/>
                <a:ea typeface="HG Mincho Light J"/>
              </a:rPr>
              <a:t>Project</a:t>
            </a: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88760" y="2101680"/>
            <a:ext cx="856116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97080" indent="-29772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WebSphere Commerce; comprehensive e-commerce solution; 600 people (&gt;250 developers)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  <a:p>
            <a:pPr marL="397080" indent="-29772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Rules Infrastructure”; integration with Blaze Advisor Suite from HNC Software; 100% pure Java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  <a:p>
            <a:pPr marL="397080" indent="-29772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Internal clients: e-marketing, discounts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  <a:p>
            <a:pPr marL="397080" indent="-29772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External clients: personalization at LL Bean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  <a:p>
            <a:pPr marL="397080" indent="-29772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Structured Rules Language” with no direct unit test support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  <a:p>
            <a:pPr marL="397080" indent="-29772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Server-side Java code for invoking and managing rules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  <a:p>
            <a:pPr marL="397080" indent="-29772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ll MT"/>
              </a:rPr>
              <a:t>JSP-based rules administration tool</a:t>
            </a:r>
            <a:endParaRPr b="0" lang="en-US" sz="28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ff"/>
                </a:solidFill>
                <a:latin typeface="Agency FB"/>
                <a:ea typeface="HG Mincho Light J"/>
              </a:rPr>
              <a:t>Constraints</a:t>
            </a: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6280" y="2101680"/>
            <a:ext cx="86817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ell MT"/>
              </a:rPr>
              <a:t>Poor customer representation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ell MT"/>
              </a:rPr>
              <a:t>Recent “adoption” of RUP; push to “feature-driven” status reporting, but not true feature-driven development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ell MT"/>
              </a:rPr>
              <a:t>Separate functional, system, installation and translation test organizations; often underfunded and overworked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ell MT"/>
              </a:rPr>
              <a:t>Almost no technical mentoring; poor designs spread quickly</a:t>
            </a:r>
            <a:endParaRPr b="0" lang="en-US" sz="3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ff"/>
                </a:solidFill>
                <a:latin typeface="Agency FB"/>
                <a:ea typeface="HG Mincho Light J"/>
              </a:rPr>
              <a:t>XP Checklist</a:t>
            </a: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66640" y="1895400"/>
          <a:ext cx="8826480" cy="483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895400"/>
                    <a:ext cx="8826480" cy="48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ff"/>
                </a:solidFill>
                <a:latin typeface="Agency FB"/>
                <a:ea typeface="HG Mincho Light J"/>
              </a:rPr>
              <a:t>Bad Experiences</a:t>
            </a: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Went from a team of five to a team of one in six months; didn't have the chance to try any of the team practices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Lack of automated acceptance tests led to recurring GUI problems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No involved customers meant an internal client had to work around my design to implement a key feature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Other parts of the system have not-so-easy-to-test design, making it tough to unit test thoroughly; slowed me down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No pair programming, which I had been looking forward to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ff"/>
                </a:solidFill>
                <a:latin typeface="Agency FB"/>
                <a:ea typeface="HG Mincho Light J"/>
              </a:rPr>
              <a:t>Good Experiences</a:t>
            </a: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-29448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Worked fewer than 20 hours of overtime in six months, compared to 215 hours between 2000 August 1 and December 31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392760" indent="-29448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One defect found during integration test; zero defects found by functional test organization to date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392760" indent="-29448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Comment from colleague: </a:t>
            </a:r>
            <a:r>
              <a:rPr b="0" i="1" lang="en-GB" sz="2400" spc="-1" strike="noStrike">
                <a:solidFill>
                  <a:srgbClr val="000000"/>
                </a:solidFill>
                <a:latin typeface="Bell MT"/>
              </a:rPr>
              <a:t>Your code is so easy to read!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392760" indent="-29448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Reversed general perception of the quality of my work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392760" indent="-29448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September 2000: ready to quit every day; now: almost enjoying the job, renewed sense of hope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392760" indent="-29448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Learning a new way to do things led to renewed interest in the work itself; shifted focus away from the product to the process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ff"/>
                </a:solidFill>
                <a:latin typeface="Agency FB"/>
                <a:ea typeface="HG Mincho Light J"/>
              </a:rPr>
              <a:t>What others think...</a:t>
            </a:r>
            <a:endParaRPr b="1" lang="en-US" sz="5400" spc="-1" strike="noStrike">
              <a:solidFill>
                <a:srgbClr val="0000ff"/>
              </a:solidFill>
              <a:latin typeface="Agency F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My manager liked my planning technique; she read </a:t>
            </a:r>
            <a:r>
              <a:rPr b="0" i="1" lang="en-GB" sz="2400" spc="-1" strike="noStrike">
                <a:solidFill>
                  <a:srgbClr val="000000"/>
                </a:solidFill>
                <a:latin typeface="Bell MT"/>
              </a:rPr>
              <a:t>Planning XP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 and likes the idea of the Planning Game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My closest colleague is sick of hearing about refactoring; when I mention it, he rolls his eyes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I have been able to pass on some of my XP coding technique to one colleague; he has been very receptive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The top development manager: </a:t>
            </a:r>
            <a:r>
              <a:rPr b="0" i="1" lang="en-GB" sz="2400" spc="-1" strike="noStrike">
                <a:solidFill>
                  <a:srgbClr val="000000"/>
                </a:solidFill>
                <a:latin typeface="Bell MT"/>
              </a:rPr>
              <a:t>Yeah. I read about XP. Sounds good, but it doesn't scale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Internal clients were impressed with trouble-free integration and a simple API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  <a:p>
            <a:pPr marL="431640" indent="-323640">
              <a:lnSpc>
                <a:spcPct val="94000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Release managers were annoyed by schema changes late in the game</a:t>
            </a:r>
            <a:endParaRPr b="0" lang="en-US" sz="24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