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28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886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70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728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886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057400" y="749160"/>
            <a:ext cx="64771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728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886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0570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2728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886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749160"/>
            <a:ext cx="64771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89"/>
              </a:spcBef>
              <a:buClr>
                <a:srgbClr val="f6063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8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8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151920"/>
            <a:ext cx="10666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A5E91C38-F668-49E3-9753-78D3A83778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/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8320" y="646596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 Topologies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lson Min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480" y="642960"/>
            <a:ext cx="10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0000"/>
              </a:lnSpc>
              <a:spcBef>
                <a:spcPts val="638"/>
              </a:spcBef>
              <a:buClr>
                <a:srgbClr val="98199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6063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0574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-to-Peer is Not Always Decentralized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when Centralization is Good</a:t>
            </a:r>
            <a:br>
              <a:rPr sz="3800"/>
            </a:br>
            <a:br>
              <a:rPr sz="38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590920" y="3657240"/>
            <a:ext cx="5333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lson Min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nelson@monkey.org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://www.media.mit.edu/~nelso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ing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1792440" cy="2280960"/>
          </a:xfrm>
          <a:prstGeom prst="rect">
            <a:avLst/>
          </a:prstGeom>
          <a:ln w="0">
            <a:noFill/>
          </a:ln>
        </p:spPr>
      </p:pic>
      <p:pic>
        <p:nvPicPr>
          <p:cNvPr id="103" name="centralized" descr=""/>
          <p:cNvPicPr/>
          <p:nvPr/>
        </p:nvPicPr>
        <p:blipFill>
          <a:blip r:embed="rId3"/>
          <a:stretch/>
        </p:blipFill>
        <p:spPr>
          <a:xfrm>
            <a:off x="2286000" y="380880"/>
            <a:ext cx="2084400" cy="2287800"/>
          </a:xfrm>
          <a:prstGeom prst="rect">
            <a:avLst/>
          </a:prstGeom>
          <a:ln w="0">
            <a:noFill/>
          </a:ln>
        </p:spPr>
      </p:pic>
      <p:pic>
        <p:nvPicPr>
          <p:cNvPr id="104" name="hierarchical" descr=""/>
          <p:cNvPicPr/>
          <p:nvPr/>
        </p:nvPicPr>
        <p:blipFill>
          <a:blip r:embed="rId4"/>
          <a:stretch/>
        </p:blipFill>
        <p:spPr>
          <a:xfrm>
            <a:off x="5943600" y="3352680"/>
            <a:ext cx="2403360" cy="2284560"/>
          </a:xfrm>
          <a:prstGeom prst="rect">
            <a:avLst/>
          </a:prstGeom>
          <a:ln w="0">
            <a:noFill/>
          </a:ln>
        </p:spPr>
      </p:pic>
      <p:pic>
        <p:nvPicPr>
          <p:cNvPr id="105" name="decentralized" descr=""/>
          <p:cNvPicPr/>
          <p:nvPr/>
        </p:nvPicPr>
        <p:blipFill>
          <a:blip r:embed="rId5"/>
          <a:stretch/>
        </p:blipFill>
        <p:spPr>
          <a:xfrm>
            <a:off x="2438280" y="3505320"/>
            <a:ext cx="1974960" cy="228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733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-tier ap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 heavy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services gatew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nd Cent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central-central" descr=""/>
          <p:cNvPicPr/>
          <p:nvPr/>
        </p:nvPicPr>
        <p:blipFill>
          <a:blip r:embed="rId2"/>
          <a:stretch/>
        </p:blipFill>
        <p:spPr>
          <a:xfrm>
            <a:off x="5867280" y="1447920"/>
            <a:ext cx="2595600" cy="28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6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ious web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availability ser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entral-ring" descr=""/>
          <p:cNvPicPr/>
          <p:nvPr/>
        </p:nvPicPr>
        <p:blipFill>
          <a:blip r:embed="rId2"/>
          <a:stretch/>
        </p:blipFill>
        <p:spPr>
          <a:xfrm>
            <a:off x="5867280" y="1371600"/>
            <a:ext cx="2595600" cy="298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358128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p2 Gnutella Refl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stTrack / KaZa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ph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entral-decent" descr=""/>
          <p:cNvPicPr/>
          <p:nvPr/>
        </p:nvPicPr>
        <p:blipFill>
          <a:blip r:embed="rId2"/>
          <a:stretch/>
        </p:blipFill>
        <p:spPr>
          <a:xfrm>
            <a:off x="5791320" y="1447920"/>
            <a:ext cx="2668320" cy="286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about other topologies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41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d + Hierarchica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 end tree of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ching archite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+ Ring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2P network of fail-over clu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+ Hierarchica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+ Centralized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central-hier" descr=""/>
          <p:cNvPicPr/>
          <p:nvPr/>
        </p:nvPicPr>
        <p:blipFill>
          <a:blip r:embed="rId2"/>
          <a:stretch/>
        </p:blipFill>
        <p:spPr>
          <a:xfrm>
            <a:off x="7086600" y="1447920"/>
            <a:ext cx="1062000" cy="1218960"/>
          </a:xfrm>
          <a:prstGeom prst="rect">
            <a:avLst/>
          </a:prstGeom>
          <a:ln w="0">
            <a:noFill/>
          </a:ln>
        </p:spPr>
      </p:pic>
      <p:pic>
        <p:nvPicPr>
          <p:cNvPr id="118" name="decent-ring" descr=""/>
          <p:cNvPicPr/>
          <p:nvPr/>
        </p:nvPicPr>
        <p:blipFill>
          <a:blip r:embed="rId3"/>
          <a:stretch/>
        </p:blipFill>
        <p:spPr>
          <a:xfrm>
            <a:off x="7162920" y="3048120"/>
            <a:ext cx="941400" cy="11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s and Weakness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lenty of topologies to choose fr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is each kind good for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a set of properties to mea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ut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What follows is very high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ngs to Measu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6781680" cy="48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rd is it to keep work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coh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uthoritative is info? (Auditing, non-repudi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easy is it to gr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ell can it handle failu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rd is it to subve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ce to legal or political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rd is it to shut down? (Can be good or b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ig can it gr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 is all in one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information is in one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one can add on to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point of fail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y secure one h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to shut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machine. But in practi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centralized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298520" cy="1424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rules for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logic for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ring owner can ad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-over to next h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long as ring has one ow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ut down ow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dd more h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ring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114560" cy="1419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32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in of auth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che consist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more leaves, rebal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ot is vulne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 easy to spo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shut down the r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gely scalable – D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hierarchical" descr=""/>
          <p:cNvPicPr/>
          <p:nvPr/>
        </p:nvPicPr>
        <p:blipFill>
          <a:blip r:embed="rId2"/>
          <a:stretch/>
        </p:blipFill>
        <p:spPr>
          <a:xfrm>
            <a:off x="7238880" y="457200"/>
            <a:ext cx="1498680" cy="1424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lk Overview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ere I come fr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pologies of distributed syste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rengths and weaknes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8080" y="5562720"/>
            <a:ext cx="54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oad generalizations a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difficult, many ow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, unreliable pe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one can join i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nd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, open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one to sue! (…but follow $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ry – yes : Practice –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decentralized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233360" cy="1432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manage the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coherent as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more than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ng is a huge w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secure as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ll single place to shut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ng is a huge w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central-ring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298520" cy="1492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80080" y="5638680"/>
            <a:ext cx="49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architecture for web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as decentr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han decentr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one can still joi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nty of redund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as decentr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ll no one to s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king very hopef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central-decent" descr=""/>
          <p:cNvPicPr/>
          <p:nvPr/>
        </p:nvPicPr>
        <p:blipFill>
          <a:blip r:embed="rId2"/>
          <a:stretch/>
        </p:blipFill>
        <p:spPr>
          <a:xfrm>
            <a:off x="7315200" y="457200"/>
            <a:ext cx="1335240" cy="1432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42560" y="5638680"/>
            <a:ext cx="42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architecture for P2P network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vs. 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35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d is pretty good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is exci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sive fault tole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calability is the big ques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32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d is easy to deal 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architecture for distributed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s well with r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is good, needs re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ce, Manageability, 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ierarchical is overlook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bining architectures is powerfu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20574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-to-Peer is Not Always Decentralized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when Centralization is Good</a:t>
            </a:r>
            <a:br>
              <a:rPr sz="3800"/>
            </a:br>
            <a:br>
              <a:rPr sz="38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590920" y="3657240"/>
            <a:ext cx="5333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lson Min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nelson@monkey.org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://www.media.mit.edu/~nelso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579132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s to Marc Hedlund, Raffi Krikorian, Tony Wh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ystems I’ve Design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6294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T Media Lab: H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ed Agents for Network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decentralized (cheating a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pular 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ive your computer something to dream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AP-like client/serve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centr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is P2P Anyway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31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Systems: 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r Power fails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pster fails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Instant Messaging fails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uses topology with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dge Resources: y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computers on edges contribute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eers are active particip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ributed Systems Topolog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6934320" cy="25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et away from fundamentali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e P2P”, “True P2P”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cus instead on system architect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the pieces fit togeth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centrate on connection topolo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ich topology for which problem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32004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ent/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pster 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nt Messa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r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entralized" descr=""/>
          <p:cNvPicPr/>
          <p:nvPr/>
        </p:nvPicPr>
        <p:blipFill>
          <a:blip r:embed="rId2"/>
          <a:stretch/>
        </p:blipFill>
        <p:spPr>
          <a:xfrm>
            <a:off x="5715000" y="1371600"/>
            <a:ext cx="2595600" cy="28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327672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-over clu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load bala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ow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ing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239920" cy="28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200400" cy="11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net (sort o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hierarchical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2998800" cy="28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nute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e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 rou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decentralized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468520" cy="286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6:52:57Z</dcterms:created>
  <dc:creator>ORA</dc:creator>
  <dc:description/>
  <dc:language>en-US</dc:language>
  <cp:lastModifiedBy>Nelson Minar</cp:lastModifiedBy>
  <cp:lastPrinted>1999-11-24T01:15:44Z</cp:lastPrinted>
  <dcterms:modified xsi:type="dcterms:W3CDTF">2001-10-31T18:22:32Z</dcterms:modified>
  <cp:revision>71</cp:revision>
  <dc:subject/>
  <dc:title>No Slide Title</dc:title>
</cp:coreProperties>
</file>