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65530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57040" y="3113640"/>
            <a:ext cx="65530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5704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1512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72840" y="144792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88640" y="144792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57040" y="311364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72840" y="311364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88640" y="311364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057040" y="1447920"/>
            <a:ext cx="6553080" cy="31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65530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057400" y="749160"/>
            <a:ext cx="64771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05704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57040" y="1447920"/>
            <a:ext cx="6553080" cy="31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1512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057040" y="3113640"/>
            <a:ext cx="65530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65530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057040" y="3113640"/>
            <a:ext cx="65530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05704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41512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72840" y="144792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488640" y="144792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057040" y="311364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272840" y="311364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488640" y="311364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65530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7400" y="749160"/>
            <a:ext cx="64771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5704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1512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57040" y="3113640"/>
            <a:ext cx="65530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057040" y="1447920"/>
            <a:ext cx="65530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089"/>
              </a:spcBef>
              <a:buClr>
                <a:srgbClr val="f6063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08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08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-360" y="151920"/>
            <a:ext cx="106668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AFACC6CC-7C43-480D-BC53-B9DD208C73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/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8320" y="6465960"/>
            <a:ext cx="449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twork Topologies: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lson Min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480" y="642960"/>
            <a:ext cx="108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0000"/>
              </a:lnSpc>
              <a:spcBef>
                <a:spcPts val="638"/>
              </a:spcBef>
              <a:buClr>
                <a:srgbClr val="98199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6063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05740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-to-Peer is Not Always Decentralized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when Centralization is Good</a:t>
            </a:r>
            <a:br>
              <a:rPr sz="3800"/>
            </a:br>
            <a:br>
              <a:rPr sz="38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590920" y="3657240"/>
            <a:ext cx="5333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elson Min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&lt;nelson@monkey.org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ttp://www.media.mit.edu/~nelso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ing" descr=""/>
          <p:cNvPicPr/>
          <p:nvPr/>
        </p:nvPicPr>
        <p:blipFill>
          <a:blip r:embed="rId2"/>
          <a:stretch/>
        </p:blipFill>
        <p:spPr>
          <a:xfrm>
            <a:off x="6172200" y="304920"/>
            <a:ext cx="1792440" cy="2280960"/>
          </a:xfrm>
          <a:prstGeom prst="rect">
            <a:avLst/>
          </a:prstGeom>
          <a:ln w="0">
            <a:noFill/>
          </a:ln>
        </p:spPr>
      </p:pic>
      <p:pic>
        <p:nvPicPr>
          <p:cNvPr id="103" name="centralized" descr=""/>
          <p:cNvPicPr/>
          <p:nvPr/>
        </p:nvPicPr>
        <p:blipFill>
          <a:blip r:embed="rId3"/>
          <a:stretch/>
        </p:blipFill>
        <p:spPr>
          <a:xfrm>
            <a:off x="2286000" y="380880"/>
            <a:ext cx="2084400" cy="2287800"/>
          </a:xfrm>
          <a:prstGeom prst="rect">
            <a:avLst/>
          </a:prstGeom>
          <a:ln w="0">
            <a:noFill/>
          </a:ln>
        </p:spPr>
      </p:pic>
      <p:pic>
        <p:nvPicPr>
          <p:cNvPr id="104" name="hierarchical" descr=""/>
          <p:cNvPicPr/>
          <p:nvPr/>
        </p:nvPicPr>
        <p:blipFill>
          <a:blip r:embed="rId4"/>
          <a:stretch/>
        </p:blipFill>
        <p:spPr>
          <a:xfrm>
            <a:off x="5943600" y="3352680"/>
            <a:ext cx="2403360" cy="2284560"/>
          </a:xfrm>
          <a:prstGeom prst="rect">
            <a:avLst/>
          </a:prstGeom>
          <a:ln w="0">
            <a:noFill/>
          </a:ln>
        </p:spPr>
      </p:pic>
      <p:pic>
        <p:nvPicPr>
          <p:cNvPr id="105" name="decentralized" descr=""/>
          <p:cNvPicPr/>
          <p:nvPr/>
        </p:nvPicPr>
        <p:blipFill>
          <a:blip r:embed="rId5"/>
          <a:stretch/>
        </p:blipFill>
        <p:spPr>
          <a:xfrm>
            <a:off x="2438280" y="3505320"/>
            <a:ext cx="1974960" cy="228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 + 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057400" y="1447920"/>
            <a:ext cx="3733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-tier ap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base heavy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 services gatew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nd Cent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central-central" descr=""/>
          <p:cNvPicPr/>
          <p:nvPr/>
        </p:nvPicPr>
        <p:blipFill>
          <a:blip r:embed="rId2"/>
          <a:stretch/>
        </p:blipFill>
        <p:spPr>
          <a:xfrm>
            <a:off x="5867280" y="1447920"/>
            <a:ext cx="2595600" cy="28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 + 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057400" y="1447920"/>
            <a:ext cx="3657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ious web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availability serv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central-ring" descr=""/>
          <p:cNvPicPr/>
          <p:nvPr/>
        </p:nvPicPr>
        <p:blipFill>
          <a:blip r:embed="rId2"/>
          <a:stretch/>
        </p:blipFill>
        <p:spPr>
          <a:xfrm>
            <a:off x="5867280" y="1371600"/>
            <a:ext cx="2595600" cy="298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 + De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57400" y="1447560"/>
            <a:ext cx="3581280" cy="15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p2 Gnutella Refl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stTrack / KaZa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ph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central-decent" descr=""/>
          <p:cNvPicPr/>
          <p:nvPr/>
        </p:nvPicPr>
        <p:blipFill>
          <a:blip r:embed="rId2"/>
          <a:stretch/>
        </p:blipFill>
        <p:spPr>
          <a:xfrm>
            <a:off x="5791320" y="1447920"/>
            <a:ext cx="2668320" cy="286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at about other topologies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057040" y="1447560"/>
            <a:ext cx="6553080" cy="41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entralized + Hierarchical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ck end tree of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ching architec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entralized + Ring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2P network of fail-over clu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entralized + Hierarchical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entralized + Centralized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central-hier" descr=""/>
          <p:cNvPicPr/>
          <p:nvPr/>
        </p:nvPicPr>
        <p:blipFill>
          <a:blip r:embed="rId2"/>
          <a:stretch/>
        </p:blipFill>
        <p:spPr>
          <a:xfrm>
            <a:off x="7086600" y="1447920"/>
            <a:ext cx="1062000" cy="1218960"/>
          </a:xfrm>
          <a:prstGeom prst="rect">
            <a:avLst/>
          </a:prstGeom>
          <a:ln w="0">
            <a:noFill/>
          </a:ln>
        </p:spPr>
      </p:pic>
      <p:pic>
        <p:nvPicPr>
          <p:cNvPr id="118" name="decent-ring" descr=""/>
          <p:cNvPicPr/>
          <p:nvPr/>
        </p:nvPicPr>
        <p:blipFill>
          <a:blip r:embed="rId3"/>
          <a:stretch/>
        </p:blipFill>
        <p:spPr>
          <a:xfrm>
            <a:off x="7162920" y="3048120"/>
            <a:ext cx="941400" cy="115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rengths and Weakness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057040" y="1447560"/>
            <a:ext cx="6553080" cy="18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lenty of topologies to choose fro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at is each kind good for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ed a set of properties to meas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autio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What follows is very high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ngs to Measu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057400" y="1447920"/>
            <a:ext cx="6781680" cy="480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rd is it to keep work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coh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authoritative is info? (Auditing, non-repudiati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easy is it to gr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ult tole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well can it handle failur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rd is it to subver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ance to legal or political inter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rd is it to shut down? (Can be good or b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big can it gr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057040" y="2209320"/>
            <a:ext cx="198108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ult Toler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266720" y="2209320"/>
            <a:ext cx="434340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em is all in one 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information is in one 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one can add on to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gle point of fail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y secure one h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sy to shut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machine. But in practic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centralized" descr=""/>
          <p:cNvPicPr/>
          <p:nvPr/>
        </p:nvPicPr>
        <p:blipFill>
          <a:blip r:embed="rId2"/>
          <a:stretch/>
        </p:blipFill>
        <p:spPr>
          <a:xfrm>
            <a:off x="7391520" y="457200"/>
            <a:ext cx="1298520" cy="1424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057040" y="2209320"/>
            <a:ext cx="198108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ult Toler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266720" y="2209320"/>
            <a:ext cx="434340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e rules for relationshi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sy logic for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ly ring owner can ad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il-over to next h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long as ring has one ow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ut down ow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dd more h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ring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114560" cy="1419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ierarchica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057040" y="2209320"/>
            <a:ext cx="198108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ult Toler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266720" y="2209320"/>
            <a:ext cx="4343400" cy="32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in of auth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che consist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 more leaves, rebal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ot is vulner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o easy to spoof 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shut down the ro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gely scalable – D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hierarchical" descr=""/>
          <p:cNvPicPr/>
          <p:nvPr/>
        </p:nvPicPr>
        <p:blipFill>
          <a:blip r:embed="rId2"/>
          <a:stretch/>
        </p:blipFill>
        <p:spPr>
          <a:xfrm>
            <a:off x="7238880" y="457200"/>
            <a:ext cx="1498680" cy="1424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alk Overview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057040" y="1447560"/>
            <a:ext cx="6553080" cy="18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ere I come fro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pologies of distributed system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rengths and weaknes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58080" y="5562720"/>
            <a:ext cx="54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road generalizations a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057040" y="2209320"/>
            <a:ext cx="198108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ult Toler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266720" y="2209320"/>
            <a:ext cx="434340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y difficult, many ow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icult, unreliable pe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yone can join in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nda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icult, open re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one to sue! (…but follow $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ory – yes : Practice – 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decentralized" descr=""/>
          <p:cNvPicPr/>
          <p:nvPr/>
        </p:nvPicPr>
        <p:blipFill>
          <a:blip r:embed="rId2"/>
          <a:stretch/>
        </p:blipFill>
        <p:spPr>
          <a:xfrm>
            <a:off x="7391520" y="457200"/>
            <a:ext cx="1233360" cy="14320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 + 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057040" y="2209320"/>
            <a:ext cx="198108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ult Toler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66720" y="2209320"/>
            <a:ext cx="434340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manage the 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coherent as 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more than 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ng is a huge w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secure as 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ill single place to shut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ng is a huge w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central-ring" descr=""/>
          <p:cNvPicPr/>
          <p:nvPr/>
        </p:nvPicPr>
        <p:blipFill>
          <a:blip r:embed="rId2"/>
          <a:stretch/>
        </p:blipFill>
        <p:spPr>
          <a:xfrm>
            <a:off x="7391520" y="457200"/>
            <a:ext cx="1298520" cy="1492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880080" y="5638680"/>
            <a:ext cx="49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architecture for web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 + De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057040" y="2209320"/>
            <a:ext cx="198108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ult Toler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266720" y="2209320"/>
            <a:ext cx="434340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e as decentra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han decentra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yone can still join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enty of redunda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e as decentra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ill no one to s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oking very hopefu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central-decent" descr=""/>
          <p:cNvPicPr/>
          <p:nvPr/>
        </p:nvPicPr>
        <p:blipFill>
          <a:blip r:embed="rId2"/>
          <a:stretch/>
        </p:blipFill>
        <p:spPr>
          <a:xfrm>
            <a:off x="7315200" y="457200"/>
            <a:ext cx="1335240" cy="1432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642560" y="5638680"/>
            <a:ext cx="424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architecture for P2P network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 vs. De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057040" y="1447560"/>
            <a:ext cx="6553080" cy="35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entralized is pretty good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entralized is excit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sive fault toler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calability is the big ques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057040" y="1447560"/>
            <a:ext cx="6553080" cy="32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entralized is easy to deal wi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jor architecture for distributed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es well with r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entralized is good, needs researc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ce, Manageability, Secu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ierarchical is overlook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mbining architectures is powerfu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7920" y="205740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-to-Peer is Not Always Decentralized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when Centralization is Good</a:t>
            </a:r>
            <a:br>
              <a:rPr sz="3800"/>
            </a:br>
            <a:br>
              <a:rPr sz="38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2590920" y="3657240"/>
            <a:ext cx="5333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elson Min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&lt;nelson@monkey.org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ttp://www.media.mit.edu/~nelso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579132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nks to Marc Hedlund, Raffi Krikorian, Tony Wh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ystems I’ve Design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6629400" cy="35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IT Media Lab: Hiv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ed Agents for Network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 decentralized (cheating a b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pular 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ive your computer something to dream ab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AP-like client/server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 centr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at is P2P Anyway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057040" y="1447560"/>
            <a:ext cx="6553080" cy="31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entralized Systems: n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pular Power fails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pster fails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Instant Messaging fails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uses topology with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dge Resources: y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all computers on edges contribute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eers are active participa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stributed Systems Topolog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1447560"/>
            <a:ext cx="6934320" cy="25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et away from fundamentalis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re P2P”, “True P2P”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cus instead on system architect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 the pieces fit togethe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centrate on connection topolog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ich topology for which problem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57400" y="1447560"/>
            <a:ext cx="32004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ent/ser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 serv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pster 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ant Messag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pular P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centralized" descr=""/>
          <p:cNvPicPr/>
          <p:nvPr/>
        </p:nvPicPr>
        <p:blipFill>
          <a:blip r:embed="rId2"/>
          <a:stretch/>
        </p:blipFill>
        <p:spPr>
          <a:xfrm>
            <a:off x="5715000" y="1371600"/>
            <a:ext cx="2595600" cy="28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057400" y="1447560"/>
            <a:ext cx="3276720" cy="15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il-over clu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e load balanc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um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ow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ring" descr=""/>
          <p:cNvPicPr/>
          <p:nvPr/>
        </p:nvPicPr>
        <p:blipFill>
          <a:blip r:embed="rId2"/>
          <a:stretch/>
        </p:blipFill>
        <p:spPr>
          <a:xfrm>
            <a:off x="5943600" y="1371600"/>
            <a:ext cx="2239920" cy="285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ierarchica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057400" y="1447920"/>
            <a:ext cx="3200400" cy="11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T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net (sort o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hierarchical" descr=""/>
          <p:cNvPicPr/>
          <p:nvPr/>
        </p:nvPicPr>
        <p:blipFill>
          <a:blip r:embed="rId2"/>
          <a:stretch/>
        </p:blipFill>
        <p:spPr>
          <a:xfrm>
            <a:off x="5638680" y="1371600"/>
            <a:ext cx="2998800" cy="284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057400" y="1447920"/>
            <a:ext cx="3200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nutel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ee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et rou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decentralized" descr=""/>
          <p:cNvPicPr/>
          <p:nvPr/>
        </p:nvPicPr>
        <p:blipFill>
          <a:blip r:embed="rId2"/>
          <a:stretch/>
        </p:blipFill>
        <p:spPr>
          <a:xfrm>
            <a:off x="5943600" y="1371600"/>
            <a:ext cx="2468520" cy="286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16:52:57Z</dcterms:created>
  <dc:creator>ORA</dc:creator>
  <dc:description/>
  <dc:language>en-US</dc:language>
  <cp:lastModifiedBy>Nelson Minar</cp:lastModifiedBy>
  <cp:lastPrinted>1999-11-24T01:15:44Z</cp:lastPrinted>
  <dcterms:modified xsi:type="dcterms:W3CDTF">2001-10-31T18:22:32Z</dcterms:modified>
  <cp:revision>71</cp:revision>
  <dc:subject/>
  <dc:title>No Slide Title</dc:title>
</cp:coreProperties>
</file>