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057040" y="1447920"/>
            <a:ext cx="655308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057040" y="3113640"/>
            <a:ext cx="655308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057040" y="1447920"/>
            <a:ext cx="319788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15120" y="1447920"/>
            <a:ext cx="319788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057040" y="3113640"/>
            <a:ext cx="319788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15120" y="3113640"/>
            <a:ext cx="319788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057040" y="1447920"/>
            <a:ext cx="210996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72840" y="1447920"/>
            <a:ext cx="210996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88640" y="1447920"/>
            <a:ext cx="210996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057040" y="3113640"/>
            <a:ext cx="210996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272840" y="3113640"/>
            <a:ext cx="210996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88640" y="3113640"/>
            <a:ext cx="210996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2057040" y="1447920"/>
            <a:ext cx="6553080" cy="31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0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057040" y="1447920"/>
            <a:ext cx="6553080" cy="31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057040" y="1447920"/>
            <a:ext cx="3197880" cy="31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415120" y="1447920"/>
            <a:ext cx="3197880" cy="31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2057400" y="749160"/>
            <a:ext cx="647712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0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057040" y="1447920"/>
            <a:ext cx="319788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415120" y="1447920"/>
            <a:ext cx="3197880" cy="31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2057040" y="3113640"/>
            <a:ext cx="319788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057040" y="1447920"/>
            <a:ext cx="6553080" cy="31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0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057040" y="1447920"/>
            <a:ext cx="3197880" cy="31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415120" y="1447920"/>
            <a:ext cx="319788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415120" y="3113640"/>
            <a:ext cx="319788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057040" y="1447920"/>
            <a:ext cx="319788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415120" y="1447920"/>
            <a:ext cx="319788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057040" y="3113640"/>
            <a:ext cx="655308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057040" y="1447920"/>
            <a:ext cx="655308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2057040" y="3113640"/>
            <a:ext cx="655308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057040" y="1447920"/>
            <a:ext cx="319788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415120" y="1447920"/>
            <a:ext cx="319788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057040" y="3113640"/>
            <a:ext cx="319788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415120" y="3113640"/>
            <a:ext cx="319788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057040" y="1447920"/>
            <a:ext cx="210996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72840" y="1447920"/>
            <a:ext cx="210996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488640" y="1447920"/>
            <a:ext cx="210996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2057040" y="3113640"/>
            <a:ext cx="210996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4272840" y="3113640"/>
            <a:ext cx="210996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488640" y="3113640"/>
            <a:ext cx="210996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057040" y="1447920"/>
            <a:ext cx="6553080" cy="31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057040" y="1447920"/>
            <a:ext cx="3197880" cy="31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15120" y="1447920"/>
            <a:ext cx="3197880" cy="31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057400" y="749160"/>
            <a:ext cx="647712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0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057040" y="1447920"/>
            <a:ext cx="319788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15120" y="1447920"/>
            <a:ext cx="3197880" cy="31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057040" y="3113640"/>
            <a:ext cx="319788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057040" y="1447920"/>
            <a:ext cx="3197880" cy="31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15120" y="1447920"/>
            <a:ext cx="319788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15120" y="3113640"/>
            <a:ext cx="319788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057040" y="1447920"/>
            <a:ext cx="319788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15120" y="1447920"/>
            <a:ext cx="319788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057040" y="3113640"/>
            <a:ext cx="655308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0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057040" y="1447920"/>
            <a:ext cx="6553080" cy="31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89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089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089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089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089"/>
              </a:spcBef>
              <a:buClr>
                <a:srgbClr val="f6063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08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08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-360" y="151920"/>
            <a:ext cx="106668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A9425CCF-7D6C-4BA1-812C-60838B3D70D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/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648320" y="6465960"/>
            <a:ext cx="449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etwork Topologies: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elson Min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0480" y="642960"/>
            <a:ext cx="1082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10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0000"/>
              </a:lnSpc>
              <a:spcBef>
                <a:spcPts val="751"/>
              </a:spcBef>
              <a:buClr>
                <a:srgbClr val="98199b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0000"/>
              </a:lnSpc>
              <a:spcBef>
                <a:spcPts val="638"/>
              </a:spcBef>
              <a:buClr>
                <a:srgbClr val="98199b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6063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47920" y="2057400"/>
            <a:ext cx="7315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-to-Peer is Not Always Decentralized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when Centralization is Good</a:t>
            </a:r>
            <a:br>
              <a:rPr sz="3800"/>
            </a:br>
            <a:br>
              <a:rPr sz="3800"/>
            </a:b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2590920" y="3657240"/>
            <a:ext cx="53337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5000"/>
              </a:lnSpc>
              <a:spcBef>
                <a:spcPts val="10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Nelson Mina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10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10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ourier New"/>
              </a:rPr>
              <a:t>&lt;nelson@monkey.org&gt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ttp://www.media.mit.edu/~nelso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ring" descr=""/>
          <p:cNvPicPr/>
          <p:nvPr/>
        </p:nvPicPr>
        <p:blipFill>
          <a:blip r:embed="rId2"/>
          <a:stretch/>
        </p:blipFill>
        <p:spPr>
          <a:xfrm>
            <a:off x="6172200" y="304920"/>
            <a:ext cx="1792440" cy="2280960"/>
          </a:xfrm>
          <a:prstGeom prst="rect">
            <a:avLst/>
          </a:prstGeom>
          <a:ln w="0">
            <a:noFill/>
          </a:ln>
        </p:spPr>
      </p:pic>
      <p:pic>
        <p:nvPicPr>
          <p:cNvPr id="103" name="centralized" descr=""/>
          <p:cNvPicPr/>
          <p:nvPr/>
        </p:nvPicPr>
        <p:blipFill>
          <a:blip r:embed="rId3"/>
          <a:stretch/>
        </p:blipFill>
        <p:spPr>
          <a:xfrm>
            <a:off x="2286000" y="380880"/>
            <a:ext cx="2084400" cy="2287800"/>
          </a:xfrm>
          <a:prstGeom prst="rect">
            <a:avLst/>
          </a:prstGeom>
          <a:ln w="0">
            <a:noFill/>
          </a:ln>
        </p:spPr>
      </p:pic>
      <p:pic>
        <p:nvPicPr>
          <p:cNvPr id="104" name="hierarchical" descr=""/>
          <p:cNvPicPr/>
          <p:nvPr/>
        </p:nvPicPr>
        <p:blipFill>
          <a:blip r:embed="rId4"/>
          <a:stretch/>
        </p:blipFill>
        <p:spPr>
          <a:xfrm>
            <a:off x="5943600" y="3352680"/>
            <a:ext cx="2403360" cy="2284560"/>
          </a:xfrm>
          <a:prstGeom prst="rect">
            <a:avLst/>
          </a:prstGeom>
          <a:ln w="0">
            <a:noFill/>
          </a:ln>
        </p:spPr>
      </p:pic>
      <p:pic>
        <p:nvPicPr>
          <p:cNvPr id="105" name="decentralized" descr=""/>
          <p:cNvPicPr/>
          <p:nvPr/>
        </p:nvPicPr>
        <p:blipFill>
          <a:blip r:embed="rId5"/>
          <a:stretch/>
        </p:blipFill>
        <p:spPr>
          <a:xfrm>
            <a:off x="2438280" y="3505320"/>
            <a:ext cx="1974960" cy="2288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-11-06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entralized + Centralized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057400" y="1447920"/>
            <a:ext cx="37339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-tier ap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base heavy syste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b services gateway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rand Centr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central-central" descr=""/>
          <p:cNvPicPr/>
          <p:nvPr/>
        </p:nvPicPr>
        <p:blipFill>
          <a:blip r:embed="rId2"/>
          <a:stretch/>
        </p:blipFill>
        <p:spPr>
          <a:xfrm>
            <a:off x="5867280" y="1447920"/>
            <a:ext cx="2595600" cy="2847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-11-06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entralized + Rin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057400" y="1447920"/>
            <a:ext cx="3657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rious web applic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igh availability serv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central-ring" descr=""/>
          <p:cNvPicPr/>
          <p:nvPr/>
        </p:nvPicPr>
        <p:blipFill>
          <a:blip r:embed="rId2"/>
          <a:stretch/>
        </p:blipFill>
        <p:spPr>
          <a:xfrm>
            <a:off x="5867280" y="1371600"/>
            <a:ext cx="2595600" cy="298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-11-06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entralized + Decentralized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057400" y="1447560"/>
            <a:ext cx="3581280" cy="153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p2 Gnutella Reflect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stTrack / KaZa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phe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i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central-decent" descr=""/>
          <p:cNvPicPr/>
          <p:nvPr/>
        </p:nvPicPr>
        <p:blipFill>
          <a:blip r:embed="rId2"/>
          <a:stretch/>
        </p:blipFill>
        <p:spPr>
          <a:xfrm>
            <a:off x="5791320" y="1447920"/>
            <a:ext cx="2668320" cy="2862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-11-06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hat about other topologies?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057040" y="1447560"/>
            <a:ext cx="6553080" cy="41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89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entralized + Hierarchical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825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ack end tree of inform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825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ching architect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89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ecentralized + Ring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825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2P network of fail-over clust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89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ecentralized + Hierarchical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89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ecentralized + Centralized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central-hier" descr=""/>
          <p:cNvPicPr/>
          <p:nvPr/>
        </p:nvPicPr>
        <p:blipFill>
          <a:blip r:embed="rId2"/>
          <a:stretch/>
        </p:blipFill>
        <p:spPr>
          <a:xfrm>
            <a:off x="7086600" y="1447920"/>
            <a:ext cx="1062000" cy="1218960"/>
          </a:xfrm>
          <a:prstGeom prst="rect">
            <a:avLst/>
          </a:prstGeom>
          <a:ln w="0">
            <a:noFill/>
          </a:ln>
        </p:spPr>
      </p:pic>
      <p:pic>
        <p:nvPicPr>
          <p:cNvPr id="118" name="decent-ring" descr=""/>
          <p:cNvPicPr/>
          <p:nvPr/>
        </p:nvPicPr>
        <p:blipFill>
          <a:blip r:embed="rId3"/>
          <a:stretch/>
        </p:blipFill>
        <p:spPr>
          <a:xfrm>
            <a:off x="7162920" y="3048120"/>
            <a:ext cx="941400" cy="1154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-11-06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trengths and Weakness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057040" y="1447560"/>
            <a:ext cx="6553080" cy="18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89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lenty of topologies to choose from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89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What is each kind good for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89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ed a set of properties to measur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89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Caution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: What follows is very high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-11-06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ngs to Measur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057400" y="1447920"/>
            <a:ext cx="6781680" cy="480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88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hard is it to keep working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88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tion coh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authoritative is info? (Auditing, non-repudiatio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88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easy is it to grow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88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ult tole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well can it handle failur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88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hard is it to subver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88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istance to legal or political interven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hard is it to shut down? (Can be good or ba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88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big can it grow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-11-06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entralized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057040" y="2209320"/>
            <a:ext cx="1981080" cy="282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nage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her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tensi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ult Tolera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wsuit-proo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al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266720" y="2209320"/>
            <a:ext cx="4343400" cy="282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ystem is all in one pla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information is in one pla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X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 one can add on to syst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X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ngle point of fail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mply secure one ho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X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asy to shut dow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?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e machine. But in practic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centralized" descr=""/>
          <p:cNvPicPr/>
          <p:nvPr/>
        </p:nvPicPr>
        <p:blipFill>
          <a:blip r:embed="rId2"/>
          <a:stretch/>
        </p:blipFill>
        <p:spPr>
          <a:xfrm>
            <a:off x="7391520" y="457200"/>
            <a:ext cx="1298520" cy="14241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-11-06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in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057040" y="2209320"/>
            <a:ext cx="1981080" cy="282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nage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her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tensi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ult Tolera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wsuit-proo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al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266720" y="2209320"/>
            <a:ext cx="4343400" cy="282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mple rules for relationshi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asy logic for st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X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ly ring owner can ad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il-over to next ho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 long as ring has one own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X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hut down own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dd more hos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ring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114560" cy="14191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-11-06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Hierarchica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057040" y="2209320"/>
            <a:ext cx="1981080" cy="282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nage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her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tensi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ult Tolera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wsuit-proo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al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266720" y="2209320"/>
            <a:ext cx="4343400" cy="32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in of author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che consistenc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d more leaves, rebal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oot is vulner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X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o easy to spoof lin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X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shut down the roo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ugely scalable – D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hierarchical" descr=""/>
          <p:cNvPicPr/>
          <p:nvPr/>
        </p:nvPicPr>
        <p:blipFill>
          <a:blip r:embed="rId2"/>
          <a:stretch/>
        </p:blipFill>
        <p:spPr>
          <a:xfrm>
            <a:off x="7238880" y="457200"/>
            <a:ext cx="1498680" cy="14241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-11-06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alk Overview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057040" y="1447560"/>
            <a:ext cx="6553080" cy="18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89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Where I come from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89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opologies of distributed system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89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trengths and weakness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89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358080" y="5562720"/>
            <a:ext cx="546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rning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road generalizations a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-11-06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057040" y="2209320"/>
            <a:ext cx="1981080" cy="282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nage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her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tensi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ult Tolera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wsuit-proo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al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266720" y="2209320"/>
            <a:ext cx="4343400" cy="282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X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y difficult, many own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X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fficult, unreliable pe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yone can join in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dundanc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X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fficult, open resear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 one to sue! (…but follow $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?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ory – yes : Practice – n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decentralized" descr=""/>
          <p:cNvPicPr/>
          <p:nvPr/>
        </p:nvPicPr>
        <p:blipFill>
          <a:blip r:embed="rId2"/>
          <a:stretch/>
        </p:blipFill>
        <p:spPr>
          <a:xfrm>
            <a:off x="7391520" y="457200"/>
            <a:ext cx="1233360" cy="14320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-11-06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entralized + Rin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057040" y="2209320"/>
            <a:ext cx="1981080" cy="282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nage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her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tensi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ult Tolera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wsuit-proo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al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66720" y="2209320"/>
            <a:ext cx="4343400" cy="282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manage the r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 coherent as r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X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 more than r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ing is a huge w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 secure as r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X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ill single place to shut dow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ing is a huge w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central-ring" descr=""/>
          <p:cNvPicPr/>
          <p:nvPr/>
        </p:nvPicPr>
        <p:blipFill>
          <a:blip r:embed="rId2"/>
          <a:stretch/>
        </p:blipFill>
        <p:spPr>
          <a:xfrm>
            <a:off x="7391520" y="457200"/>
            <a:ext cx="1298520" cy="14922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3880080" y="5638680"/>
            <a:ext cx="493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on architecture for web 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-11-06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entralized + Decentralized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057040" y="2209320"/>
            <a:ext cx="1981080" cy="282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nage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her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tensi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ult Tolera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wsuit-proo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al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266720" y="2209320"/>
            <a:ext cx="4343400" cy="282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X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ame as decentra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tter than decentra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yone can still join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enty of redundanc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X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ame as decentra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ill no one to s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?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oking very hopefu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central-decent" descr=""/>
          <p:cNvPicPr/>
          <p:nvPr/>
        </p:nvPicPr>
        <p:blipFill>
          <a:blip r:embed="rId2"/>
          <a:stretch/>
        </p:blipFill>
        <p:spPr>
          <a:xfrm>
            <a:off x="7315200" y="457200"/>
            <a:ext cx="1335240" cy="143208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642560" y="5638680"/>
            <a:ext cx="424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st architecture for P2P network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-11-06</a:t>
            </a: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entralized vs. Decentralized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057040" y="1447560"/>
            <a:ext cx="6553080" cy="35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89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entralized is pretty good!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825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nage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825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her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825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89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ecentralized is excitin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825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tensi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825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ssive fault toler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825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wsuit-proo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89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calability is the big ques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-11-06</a:t>
            </a: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057040" y="1447560"/>
            <a:ext cx="6553080" cy="32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89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entralized is easy to deal with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825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jor architecture for distributed syste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825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bines well with ring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89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ecentralized is good, needs research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825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herence, Manageability, Secur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825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alabi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89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ierarchical is overlooke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89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mbining architectures is powerfu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-11-06</a:t>
            </a: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447920" y="2057400"/>
            <a:ext cx="7315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-to-Peer is Not Always Decentralized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when Centralization is Good</a:t>
            </a:r>
            <a:br>
              <a:rPr sz="3800"/>
            </a:br>
            <a:br>
              <a:rPr sz="3800"/>
            </a:b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2590920" y="3657240"/>
            <a:ext cx="53337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5000"/>
              </a:lnSpc>
              <a:spcBef>
                <a:spcPts val="10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Nelson Mina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10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10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ourier New"/>
              </a:rPr>
              <a:t>&lt;nelson@monkey.org&gt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ttp://www.media.mit.edu/~nelso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5791320"/>
            <a:ext cx="510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anks to Marc Hedlund, Raffi Krikorian, Tony Wh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-11-06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ystems I’ve Designed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057040" y="1447920"/>
            <a:ext cx="6629400" cy="35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089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IT Media Lab: Hiv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751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istributed Agents for Networking Th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751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ributed ob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751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bile ag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751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lly decentralized (cheating a b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089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opular 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751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ive your computer something to dream ab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751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AP-like client/server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751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bile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751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lly centraliz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-11-06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hat is P2P Anyway?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057040" y="1447560"/>
            <a:ext cx="6553080" cy="311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89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ecentralized Systems: n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825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pular Power fails te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825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apster fails te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825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st Instant Messaging fails te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825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fuses topology with fun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89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Edge Resources: y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825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mall computers on edges contribute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825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peers are active participa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-11-06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stributed Systems Topolog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057400" y="1447560"/>
            <a:ext cx="6934320" cy="25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89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Get away from fundamentalism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825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ure P2P”, “True P2P”, et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89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ocus instead on system architectur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825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 do the pieces fit together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89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centrate on connection topolog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89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Which topology for which problem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-11-06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entralized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057400" y="1447560"/>
            <a:ext cx="32004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ent/serv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b serv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ba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apster sear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stant Messag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pular Pow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centralized" descr=""/>
          <p:cNvPicPr/>
          <p:nvPr/>
        </p:nvPicPr>
        <p:blipFill>
          <a:blip r:embed="rId2"/>
          <a:stretch/>
        </p:blipFill>
        <p:spPr>
          <a:xfrm>
            <a:off x="5715000" y="1371600"/>
            <a:ext cx="2595600" cy="2847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-11-06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in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057400" y="1447560"/>
            <a:ext cx="3276720" cy="153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il-over clust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mple load balanc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ump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buClr>
                <a:srgbClr val="98199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ow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ring" descr=""/>
          <p:cNvPicPr/>
          <p:nvPr/>
        </p:nvPicPr>
        <p:blipFill>
          <a:blip r:embed="rId2"/>
          <a:stretch/>
        </p:blipFill>
        <p:spPr>
          <a:xfrm>
            <a:off x="5943600" y="1371600"/>
            <a:ext cx="2239920" cy="2852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-11-06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Hierarchica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057400" y="1447920"/>
            <a:ext cx="3200400" cy="11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T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net (sort of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hierarchical" descr=""/>
          <p:cNvPicPr/>
          <p:nvPr/>
        </p:nvPicPr>
        <p:blipFill>
          <a:blip r:embed="rId2"/>
          <a:stretch/>
        </p:blipFill>
        <p:spPr>
          <a:xfrm>
            <a:off x="5638680" y="1371600"/>
            <a:ext cx="2998800" cy="2849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-11-06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057400" y="749160"/>
            <a:ext cx="6477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057400" y="1447920"/>
            <a:ext cx="3200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nutell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reen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64"/>
              </a:spcBef>
              <a:buClr>
                <a:srgbClr val="981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ernet rout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decentralized" descr=""/>
          <p:cNvPicPr/>
          <p:nvPr/>
        </p:nvPicPr>
        <p:blipFill>
          <a:blip r:embed="rId2"/>
          <a:stretch/>
        </p:blipFill>
        <p:spPr>
          <a:xfrm>
            <a:off x="5943600" y="1371600"/>
            <a:ext cx="2468520" cy="286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1-11-06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6T16:52:57Z</dcterms:created>
  <dc:creator>ORA</dc:creator>
  <dc:description/>
  <dc:language>en-US</dc:language>
  <cp:lastModifiedBy>Nelson Minar</cp:lastModifiedBy>
  <cp:lastPrinted>1999-11-24T01:15:44Z</cp:lastPrinted>
  <dcterms:modified xsi:type="dcterms:W3CDTF">2001-10-31T18:22:32Z</dcterms:modified>
  <cp:revision>71</cp:revision>
  <dc:subject/>
  <dc:title>No Slide Title</dc:title>
</cp:coreProperties>
</file>