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05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03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31A4D142-D416-44CF-8B8F-5856565FBDB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HK" sz="12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The quotation suggests that we change behavior because we are not content with existing behavi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1445-E804-4921-BCF4-0CF31087D2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642E-104D-4DF5-ABF1-A90DA696F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830-502E-46C2-B59A-1C1DDA394A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E566-EDB4-4D12-B03D-D9FD7DDDA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94B2-92AF-4021-B337-DD28722D7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ED0FC-754F-4F70-89A5-FC4D24BEA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CCFCB-39C2-4B57-9D2E-4BCC1D235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3611F-02D1-4658-B40F-D2AF76EC5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C3F64-B706-451C-8C7F-C069C9A81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F0D81-AB90-4252-9301-2B3813FB1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80C120-2A3C-46C8-980F-1ACEC17B2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395EA-284F-427A-A18F-43B52913F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5F191-B0BF-4995-8BEC-1203DED1D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B1D8E-8247-4FC3-9236-A94AC1D25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D0C1D-843D-4BD0-9D3B-ECF0F9A69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5C720-7502-4239-9959-24916FDFB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46572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3000" y="190476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83808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46572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6093000" y="4053240"/>
            <a:ext cx="250200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68F74-DEEA-45D7-A004-C5884862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51DD6-92F7-4DC9-891D-B059A875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B733-3797-45FB-A4AD-2D8535159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F41C-2CD6-4DFB-963B-1054C5BED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12600"/>
            <a:ext cx="77709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C73-357C-4D8B-919C-AB940740E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A761-B370-49D9-BDDB-7F8ABAF1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040" y="405324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0C51C-CB30-4974-8DD5-94EB6143B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040" y="1904760"/>
            <a:ext cx="37918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3240"/>
            <a:ext cx="77709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BBB72-0B14-4652-B55F-00D00913A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2240"/>
                <a:chOff x="0" y="304920"/>
                <a:chExt cx="9144000" cy="640224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5960" cy="6858000"/>
                <a:chOff x="304920" y="0"/>
                <a:chExt cx="85359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180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2560" y="1415880"/>
              <a:ext cx="1787400" cy="2324160"/>
              <a:chOff x="412560" y="1415880"/>
              <a:chExt cx="178740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2560" y="1512720"/>
                <a:ext cx="17874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040" y="1419120"/>
                <a:ext cx="144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3680" cy="1936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1260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4760"/>
            <a:ext cx="7770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3680" indent="-2811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29C367A1-FDDB-462B-9357-08BA4AF8A20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18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144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144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180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180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3240" y="887400"/>
              <a:ext cx="6657840" cy="2851200"/>
              <a:chOff x="3240" y="887400"/>
              <a:chExt cx="665784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180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3240" y="3052440"/>
                <a:ext cx="510048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8040" y="1487160"/>
                <a:ext cx="6053040" cy="468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8600" y="136620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144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3880" y="5312520"/>
                <a:ext cx="247680" cy="2491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360" y="1460520"/>
            <a:ext cx="777060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286B3B-9DB7-46F4-BCA4-9DA86E84FFB2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1640" y="4952520"/>
            <a:ext cx="3886200" cy="12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Craig McClure, MD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EOSG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University of Arizona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37680" indent="-337680">
              <a:lnSpc>
                <a:spcPct val="90000"/>
              </a:lnSpc>
              <a:spcBef>
                <a:spcPts val="451"/>
              </a:spcBef>
              <a:buSzPct val="201575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March 2005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ompeten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s of rules becomes exces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Learn organizing principles or “perspectives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erspectives permit assorting information by relevan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e experience of responsibility arises from active decision-making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competent physician realizes the multitude of factors influencing the likelihood that a single symptom represents ischemia and has a decision tree to allocate probabilities balancing a number of factors in deciding when to order an EKG or other diagnostic modalities and begin treatment</a:t>
            </a: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28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SzPct val="113071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Intuitive diagnosi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pproach to problem molded by perspective arising from multiple real world experience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listic similarity recognition”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Learner uses intuition to realize “what” is happening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Conscious decision-making and rules used to formulate pla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physician realizes “this is an infarction” and then applies rules to decide about thrombolysi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make decis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n’t solve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Do what work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 decomposition of situation into discrete element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Pattern recognition extends to plan as well as diagnosi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is is an infarction and we should implement the following diagnostic and therapeutic interventions.”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When Expertise Fail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xpert uses rules and explicit decision-making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1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Novice: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follows rules and does not feel responsible for outcome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recognizes new situations in which the rules may be applied. Still does not feel responsible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 </a:t>
            </a: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Times New Roman"/>
              </a:rPr>
              <a:t>Compet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Follows rules, applies an organizing “perspective” to determine what elements of the problem are relevant and feels accountable because of decision-making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“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o become competent you must feel bad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Hubert Dreyfus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Proficienc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proficient learner uses pattern recognition arising from extensive experience to identify the problem (“what” is happening”) and rules and analysis in formulating the “how” of the solution.  A sense of responsibility follows the decision-making.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Arial"/>
              </a:rPr>
              <a:t>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Expertis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immediately sees “what” is happening and “how” to approach the situation.  Pattern recognition extends to management plan as well as diagnosis. 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Bookman Old Style"/>
                <a:ea typeface="Arial"/>
              </a:rPr>
              <a:t>Dreyfus Model of Skill Acquisi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utility of the concept of skill acquisition lies in helping the teacher understand how to assist the learner in advancing to the next level.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ctivities Studied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irplane pilot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Chess players,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utomobile drivers,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Adult learners of a second languag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i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ovi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dvanced Beginner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ompet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ficien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Exper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12240"/>
            <a:ext cx="77724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Best Opportunity to Observe Stag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Unstructured problem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umber of potentially relevant facts enormou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ariety of solutions extensiv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Novi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The novice follows rul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Specific rules for specific circumstance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No modifier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“</a:t>
            </a: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Context free”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Tahoma"/>
              </a:rPr>
              <a:t>Don’t feel responsible for other than following the rul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  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early medical student is taught to obtain an EKG for chest pain, without other modifiers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dvanced Beginner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ew “situational” elements are identified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Rules begin to be applied to related conditions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ecisions still are made by rule application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Does not experience personal responsibilit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	</a:t>
            </a:r>
            <a:r>
              <a:rPr b="0" lang="en-HK" sz="3200" spc="-1" strike="noStrike">
                <a:solidFill>
                  <a:srgbClr val="40458c"/>
                </a:solidFill>
                <a:latin typeface="Bookman Old Style"/>
                <a:ea typeface="Times New Roman"/>
              </a:rPr>
              <a:t>The more experienced medical student finds that dyspnea also might be associated with cardiac ischemia and orders an EKG for that situation as well. 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raig McClure</dc:creator>
  <dc:description/>
  <dc:language>en-US</dc:language>
  <cp:lastModifiedBy>Craig McClure</cp:lastModifiedBy>
  <cp:revision>0</cp:revision>
  <dc:subject/>
  <dc:title>Dreyfus Model of Skills Acquisition</dc:title>
</cp:coreProperties>
</file>