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A108-2A21-456B-8030-1F339D18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43E5-9C69-440E-93B7-B835D27B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9FE7-D910-4F94-8D66-D7D5C671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01F-B045-4C40-8CC9-051B990D0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F0D57-645B-409F-8E5C-DD438E571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44CCB-8A6E-4EE2-BAE1-BD806CA7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2DFC-C997-4283-A437-64A69283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7A603-7961-496E-9440-97A7C40C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FFAE2-F0C9-4776-8BB5-4C5F1E114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557D-0F09-4DCA-9E2C-723DDFE4C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18B72-2BDB-487C-9B30-7E6BD40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B32-A38F-424A-A0FB-AAE5D9F3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7CD08-4FDD-453D-BF8F-A1223891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C944-5D66-42B8-A071-2F139BA8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98A8-2854-4B91-8A2A-A9121E1A7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B037D-BC16-4EC4-A4D0-5CD4BDE3E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880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5080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1252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880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5080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94000-219D-45C7-8592-28F91AC6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C9B7-3F39-4D9A-8E4E-5602D1D3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663E-6550-43A7-9A34-108D31FF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429-1B35-4247-A11A-F465BBFE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25244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4EAF-7C24-4D17-8E4C-E9EB7701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56A-F897-4CAB-9F92-1F093D0F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2351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BB95-49F8-4FBD-80B7-0383862F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351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524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664-275B-4931-8440-404F00B1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620280" y="-418320"/>
            <a:ext cx="2669400" cy="7673760"/>
            <a:chOff x="-620280" y="-418320"/>
            <a:chExt cx="2669400" cy="7673760"/>
          </a:xfrm>
        </p:grpSpPr>
        <p:sp>
          <p:nvSpPr>
            <p:cNvPr id="1" name=""/>
            <p:cNvSpPr/>
            <p:nvPr/>
          </p:nvSpPr>
          <p:spPr>
            <a:xfrm rot="2700000">
              <a:off x="-320760" y="-11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rot="2700000">
              <a:off x="-321120" y="-1191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rot="2700000">
              <a:off x="-312480" y="-1116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2700000">
              <a:off x="-308520" y="-1137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rot="2700000">
              <a:off x="52920" y="2581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rot="2700000">
              <a:off x="-320040" y="1129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rot="2700000">
              <a:off x="-321480" y="1121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2700000">
              <a:off x="-312480" y="1129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2700000">
              <a:off x="-308520" y="1127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rot="2700000">
              <a:off x="52920" y="1504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rot="2700000">
              <a:off x="-320040" y="238068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rot="2700000">
              <a:off x="-320040" y="363636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rot="2700000">
              <a:off x="-321480" y="362844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rot="2700000">
              <a:off x="-312480" y="363600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rot="2700000">
              <a:off x="-308520" y="363420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rot="2700000">
              <a:off x="52920" y="4006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2700000">
              <a:off x="-320760" y="4881960"/>
              <a:ext cx="144432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8900000">
              <a:off x="290520" y="51660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8900000">
              <a:off x="281520" y="515880"/>
              <a:ext cx="144432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8900000">
              <a:off x="285840" y="51588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8900000">
              <a:off x="281160" y="51696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8900000">
              <a:off x="688680" y="8960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8900000">
              <a:off x="300240" y="1758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8900000">
              <a:off x="291240" y="175752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8900000">
              <a:off x="295200" y="1757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18900000">
              <a:off x="285840" y="1758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18900000">
              <a:off x="687960" y="2137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rot="2700000">
              <a:off x="-321480" y="2372760"/>
              <a:ext cx="144360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rot="2700000">
              <a:off x="-312480" y="2380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rot="2700000">
              <a:off x="-303840" y="2378520"/>
              <a:ext cx="144576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rot="2700000">
              <a:off x="52920" y="275544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rot="18900000">
              <a:off x="304920" y="3008880"/>
              <a:ext cx="144468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rot="18900000">
              <a:off x="305280" y="3008880"/>
              <a:ext cx="144432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rot="18900000">
              <a:off x="300600" y="3008160"/>
              <a:ext cx="144324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rot="18900000">
              <a:off x="290520" y="3009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8900000">
              <a:off x="693000" y="338868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8900000">
              <a:off x="300240" y="426492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8900000">
              <a:off x="291240" y="4264200"/>
              <a:ext cx="1443600" cy="1444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8900000">
              <a:off x="295200" y="426384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8900000">
              <a:off x="290520" y="426492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rot="18900000">
              <a:off x="687960" y="4644360"/>
              <a:ext cx="682200" cy="68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rot="2700000">
              <a:off x="-321120" y="4874760"/>
              <a:ext cx="1442880" cy="1442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929" y="463"/>
                  </a:moveTo>
                  <a:arcTo wR="10800" hR="10800" stAng="-4389371" swAng="34554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3929" y="463"/>
                  </a:moveTo>
                  <a:arcTo wR="10800" hR="10800" stAng="-4389371" swAng="34554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rot="2700000">
              <a:off x="-312480" y="4882320"/>
              <a:ext cx="1443600" cy="1444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950" y="1307"/>
                  </a:moveTo>
                  <a:arcTo wR="10800" hR="10800" stAng="-3691210" swAng="21513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5950" y="1307"/>
                  </a:moveTo>
                  <a:arcTo wR="10800" hR="10800" stAng="-3691210" swAng="2151388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rot="2700000">
              <a:off x="-308520" y="4880160"/>
              <a:ext cx="1444680" cy="14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494" y="2325"/>
                  </a:moveTo>
                  <a:arcTo wR="10800" hR="10800" stAng="-3101654" swAng="84707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494" y="2325"/>
                  </a:moveTo>
                  <a:arcTo wR="10800" hR="10800" stAng="-3101654" swAng="847077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700000">
              <a:off x="52920" y="525708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900000">
              <a:off x="300240" y="5511240"/>
              <a:ext cx="1443960" cy="14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44" swAng="5392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44" swAng="5392444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8900000">
              <a:off x="291240" y="5510880"/>
              <a:ext cx="1443600" cy="144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85" y="8337"/>
                  </a:moveTo>
                  <a:arcTo wR="10800" hR="10800" stAng="-10009022" swAng="3777837"/>
                  <a:lnTo>
                    <a:pt x="10800" y="10800"/>
                  </a:lnTo>
                  <a:close/>
                </a:path>
                <a:path fill="none" w="21600" h="21600">
                  <a:moveTo>
                    <a:pt x="285" y="8337"/>
                  </a:moveTo>
                  <a:arcTo wR="10800" hR="10800" stAng="-10009022" swAng="3777837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rot="18900000">
              <a:off x="295200" y="5510160"/>
              <a:ext cx="1443960" cy="144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71" y="6324"/>
                  </a:moveTo>
                  <a:arcTo wR="10800" hR="10800" stAng="-9330867" swAng="2293109"/>
                  <a:lnTo>
                    <a:pt x="10800" y="10800"/>
                  </a:lnTo>
                  <a:close/>
                </a:path>
                <a:path fill="none" w="21600" h="21600">
                  <a:moveTo>
                    <a:pt x="971" y="6324"/>
                  </a:moveTo>
                  <a:arcTo wR="10800" hR="10800" stAng="-9330867" swAng="2293109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rot="18900000">
              <a:off x="285840" y="5511240"/>
              <a:ext cx="1444320" cy="1445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232" y="4225"/>
                  </a:moveTo>
                  <a:arcTo wR="10800" hR="10800" stAng="-8550030" swAng="8728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232" y="4225"/>
                  </a:moveTo>
                  <a:arcTo wR="10800" hR="10800" stAng="-8550030" swAng="872896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18900000">
              <a:off x="688680" y="5890320"/>
              <a:ext cx="682200" cy="68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0"/>
                  </a:moveTo>
                  <a:arcTo wR="10800" hR="10800" stAng="-10784010" swAng="538401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0"/>
                  </a:moveTo>
                  <a:arcTo wR="10800" hR="10800" stAng="-10784010" swAng="538401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428F-1B4C-4C9B-8116-519A849DDD6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-2489760" y="-1479240"/>
            <a:ext cx="14158800" cy="14128560"/>
            <a:chOff x="-2489760" y="-1479240"/>
            <a:chExt cx="14158800" cy="14128560"/>
          </a:xfrm>
        </p:grpSpPr>
        <p:sp>
          <p:nvSpPr>
            <p:cNvPr id="93" name=""/>
            <p:cNvSpPr/>
            <p:nvPr/>
          </p:nvSpPr>
          <p:spPr>
            <a:xfrm rot="18900000">
              <a:off x="-402480" y="635040"/>
              <a:ext cx="9953280" cy="995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7" y="0"/>
                  </a:moveTo>
                  <a:arcTo wR="10800" hR="10800" stAng="-5401097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7" y="0"/>
                  </a:moveTo>
                  <a:arcTo wR="10800" hR="10800" stAng="-5401097" swAng="5400000"/>
                </a:path>
              </a:pathLst>
            </a:custGeom>
            <a:solidFill>
              <a:srgbClr val="ff7c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rot="18900000">
              <a:off x="-414360" y="610560"/>
              <a:ext cx="9954000" cy="995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5" y="274"/>
                  </a:moveTo>
                  <a:arcTo wR="10800" hR="10800" stAng="-4624598" swAng="3761142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5" y="274"/>
                  </a:moveTo>
                  <a:arcTo wR="10800" hR="10800" stAng="-4624598" swAng="3761142"/>
                </a:path>
              </a:pathLst>
            </a:custGeom>
            <a:solidFill>
              <a:srgbClr val="99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rot="18900000">
              <a:off x="-428400" y="608760"/>
              <a:ext cx="9950400" cy="9951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0" y="1180"/>
                  </a:moveTo>
                  <a:arcTo wR="10800" hR="10800" stAng="-3777650" swAng="20620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0" y="1180"/>
                  </a:moveTo>
                  <a:arcTo wR="10800" hR="10800" stAng="-3777650" swAng="2062072"/>
                </a:path>
              </a:pathLst>
            </a:cu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rot="18900000">
              <a:off x="-345600" y="582480"/>
              <a:ext cx="9954000" cy="995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69821" swAng="821637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69821" swAng="821637"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18900000">
              <a:off x="-6120" y="1043280"/>
              <a:ext cx="920736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gradFill rotWithShape="0">
              <a:gsLst>
                <a:gs pos="0">
                  <a:srgbClr val="ff7c8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18900000">
              <a:off x="-17280" y="1020240"/>
              <a:ext cx="9205560" cy="920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217" y="274"/>
                  </a:moveTo>
                  <a:arcTo wR="10800" hR="10800" stAng="-4624232" swAng="3761643"/>
                  <a:lnTo>
                    <a:pt x="10800" y="10800"/>
                  </a:lnTo>
                  <a:close/>
                </a:path>
                <a:path fill="none" w="21600" h="21600">
                  <a:moveTo>
                    <a:pt x="13217" y="274"/>
                  </a:moveTo>
                  <a:arcTo wR="10800" hR="10800" stAng="-4624232" swAng="3761643"/>
                </a:path>
              </a:pathLst>
            </a:cu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rot="18900000">
              <a:off x="-8640" y="1002960"/>
              <a:ext cx="9207000" cy="9207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712" y="1181"/>
                  </a:moveTo>
                  <a:arcTo wR="10800" hR="10800" stAng="-3776942" swAng="206267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712" y="1181"/>
                  </a:moveTo>
                  <a:arcTo wR="10800" hR="10800" stAng="-3776942" swAng="2062679"/>
                </a:path>
              </a:pathLst>
            </a:custGeom>
            <a:gradFill rotWithShape="0">
              <a:gsLst>
                <a:gs pos="0">
                  <a:srgbClr val="ff33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18900000">
              <a:off x="47520" y="978840"/>
              <a:ext cx="9204840" cy="9207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25" y="2194"/>
                  </a:moveTo>
                  <a:arcTo wR="10800" hR="10800" stAng="-3170024" swAng="8219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25" y="2194"/>
                  </a:moveTo>
                  <a:arcTo wR="10800" hR="10800" stAng="-3170024" swAng="821920"/>
                </a:path>
              </a:pathLst>
            </a:custGeom>
            <a:gradFill rotWithShape="0">
              <a:gsLst>
                <a:gs pos="0">
                  <a:srgbClr val="99009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18900000">
              <a:off x="2535120" y="3738240"/>
              <a:ext cx="4075920" cy="4076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4A692-9FB0-4323-B91C-8411F65F75E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76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ptimizing Pixomatic For Modern Processor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90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ichael Abras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AD Game Tools, In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From U,V To A Texture Addres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05120" y="1828800"/>
            <a:ext cx="304776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00VV.vvvv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952880" y="1828800"/>
            <a:ext cx="30481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uuuuuu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58580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894800" y="2437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73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98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417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226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20960" y="37339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477120" y="3733920"/>
            <a:ext cx="153972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UU.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16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910640" y="434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890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14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5760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3848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2136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02240" y="2437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2136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02240" y="4342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66688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2971800"/>
            <a:ext cx="31244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243828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943600" y="2971800"/>
            <a:ext cx="1371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315200" y="2971800"/>
            <a:ext cx="0" cy="76212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3733920"/>
            <a:ext cx="1524240" cy="609480"/>
          </a:xfrm>
          <a:prstGeom prst="rect">
            <a:avLst/>
          </a:prstGeom>
          <a:solidFill>
            <a:srgbClr val="9933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0VV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920960" y="5562720"/>
            <a:ext cx="3047760" cy="609480"/>
          </a:xfrm>
          <a:prstGeom prst="rect">
            <a:avLst/>
          </a:prstGeom>
          <a:solidFill>
            <a:srgbClr val="969696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952880" y="5562720"/>
            <a:ext cx="306396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0 0 0 0VVUU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16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10640" y="6171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9890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8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14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7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5760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93848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2136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02240" y="617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4343400"/>
            <a:ext cx="0" cy="533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4876920"/>
            <a:ext cx="7617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238880" y="48769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923640" y="3047040"/>
            <a:ext cx="182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115880" y="490608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SRL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1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81080" y="1597680"/>
            <a:ext cx="670572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d              esp,dword ptr [_RotatedFixed16ZXStep]       ; ste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adc              esp,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sw        mm2,mmword ptr [_argb7x_GouraudXStep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ddd          mm0,mmword ptr _Spans+20h[esi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cmp             sp,word ptr [ebx+ecx*2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; z buffer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a                 LoopBotto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             word ptr [ebx+ecx*2],s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nd            mm0,mmword ptr [_TexMap]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; texture mapp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hufw        mm5,mm0,0Dh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rld            mm5,mmword ptr [_TexMap+28h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eax,mm5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mm7,dword ptr [edx+eax*4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q           mm6,mm2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; Gouraud shad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unpcklbw  mm7,dword ptr [_MMX_0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sllw           mm7,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mulhw       mm7,mm6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; pixel pack/writ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movd           dword ptr [edi+ecx*4],mm7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inc              ecx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                        ; loop contro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Times New Roman"/>
              </a:rPr>
              <a:t>jne              LoopTo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Welded Code Sample 2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1829520"/>
            <a:ext cx="35053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Top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sp,dword ptr [_RotatedFixed16Z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c         esp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sw      mm2,mmword ptr [_argb7x_GouraudXSte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d       mm0,mmword ptr _Spans+20h[esi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cmp         sp,word ptr [ebx+ecx*2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a          LoopBottom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         word ptr [ebx+ecx*2],s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0,mmword ptr [_TexMap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6,mm0,0D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7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word ptr [_TexMap+40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6,mmword ptr [_TexMap+2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4,mm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d       mm4,mmword ptr [_TexMap+4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nd        mm4,mmword ptr [_MMX_0x003F003F003F003F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5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eax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6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5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4,mm4,0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dd         eax,dword ptr [_TexMap+0F4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2680" y="1813680"/>
            <a:ext cx="269712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and         eax,dword ptr [_TexMap+0F8h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6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word ptr [_MMX_UFrac]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mm4,dword ptr [edx+eax*4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4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5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ubw       mm4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6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aw       mm6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lw      mm4,mmword ptr [_MMX_UFrac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hufw      mm7,mm0,0AAh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rlw       mm7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5,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4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5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6,mm4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ddw 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q        mm6,mm2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unpcklbw   mm7,dword ptr [_MMX_0]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sllw       mm7,1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mulhw      mm7,mm6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packuswb    mm7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movd        dword ptr [edi+ecx*4],mm7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LoopBottom: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inc         ecx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jne         LoopTop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Out Of Order Processing is Cool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swizzle textur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 need to overlap divid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tra moves are often fre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ry Stuff And See What Stick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oop Unrolling Is Rarely A Wi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Unrolling once sometimes helpe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ranch Prediction, And Unexpected Implications Thereof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35800" y="578160"/>
            <a:ext cx="258264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 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Branching Pattern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23520" y="202608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99480" y="3748320"/>
            <a:ext cx="21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77880" y="1965240"/>
            <a:ext cx="216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ass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79320" y="3717720"/>
            <a:ext cx="20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il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5480" y="959760"/>
            <a:ext cx="23360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2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{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if (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condition 3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l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handler 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ssume Nothing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inear Versus Binary Sear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828800"/>
          <a:ext cx="7326360" cy="446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7326360" cy="44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elp The Data Cache Work Efficiently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5244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undreds of cycles per miss to memor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lways hidden by caching and out-of-order proces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n’t chase sparse point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void sparse accesses to large data structures in gen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SE2 Didn’t Help Us Much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integer ops, half the speed of MM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d parallelism didn’t help 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quires yet another code pat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r doubles, only 2-way SIM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mall Changes -&gt; Huge Effect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ouble alignment on stac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64K alias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Hyperthreading Didn’t Help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2524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ot a good fit for a standard 3D pipelin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tentially helpful for deferred rendering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Questions?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omatic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92468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X86 software render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indows and Linux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igh-end DX7-class feature se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cept cubemap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w-end DX7-class performa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7c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eak P4/3GHz performance, 1 texture+Gourau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10 megapixel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33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86 million triangles/secon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 DX7-Class Rasterizer Turned Out To Be Possibl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Appropriate Technology In Appropriate Places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5244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ostly 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line ASM in key plac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ustom preprocesso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lding - code compiled on the f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Pixel Pipeline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z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loop cou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span-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pixel-buffer pixel addr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texture 0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1/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texture 0 coordinates (u0, v0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texture 1 coordinates (u1, v1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specular col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-MM7 - scratch register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Span Generation Register Allocation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52440" y="22093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X - scratch register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X - -scanline leng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CX - 1/z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X - scratch regis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I - pixel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BP - span list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DI - z-buffer pixel addres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P - stack poin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0 - previous span (u0, v0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0 -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1 - previous span (u1, v1)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1 - u0,v0,u1,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2 - Gouraud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2 -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 - Gouraud AR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3 - left edge 1/w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4 - specular GB component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4 - left edge 1/w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M3-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5 - left ed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8520" indent="-308520">
              <a:lnSpc>
                <a:spcPct val="75000"/>
              </a:lnSpc>
              <a:spcBef>
                <a:spcPts val="601"/>
              </a:spcBef>
              <a:buClr>
                <a:srgbClr val="ff3399"/>
              </a:buClr>
              <a:buSzPct val="80000"/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XMM6-XMM7 - scratch registers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               u0, v0, u1, v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MMX Pixel Format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05120" y="2438280"/>
            <a:ext cx="1523880" cy="533520"/>
          </a:xfrm>
          <a:prstGeom prst="rect">
            <a:avLst/>
          </a:prstGeom>
          <a:solidFill>
            <a:srgbClr val="80808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2438280"/>
            <a:ext cx="1523880" cy="533520"/>
          </a:xfrm>
          <a:prstGeom prst="rect">
            <a:avLst/>
          </a:prstGeom>
          <a:solidFill>
            <a:srgbClr val="0000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952880" y="2438280"/>
            <a:ext cx="1524240" cy="533520"/>
          </a:xfrm>
          <a:prstGeom prst="rect">
            <a:avLst/>
          </a:prstGeom>
          <a:solidFill>
            <a:srgbClr val="00ff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429000" y="2438280"/>
            <a:ext cx="1523880" cy="533520"/>
          </a:xfrm>
          <a:prstGeom prst="rect">
            <a:avLst/>
          </a:prstGeom>
          <a:solidFill>
            <a:srgbClr val="ff0000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85800" y="2970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6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94800" y="2970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726640" y="3808080"/>
            <a:ext cx="444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ch field has 8 integral bit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number of fractional bi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aries throughout the pipelin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524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Texture Mapping Code</a:t>
            </a:r>
            <a:endParaRPr b="0" i="1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8480" y="2514960"/>
            <a:ext cx="603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n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WrapUV0Mask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hufw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mm0,0D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srl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5,[WrapUV0RightShift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x,mm5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v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7,[edx+eax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d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m0,[UV0Step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3T00:03:54Z</dcterms:created>
  <dc:creator>me</dc:creator>
  <dc:description/>
  <dc:language>en-US</dc:language>
  <cp:lastModifiedBy>TomF</cp:lastModifiedBy>
  <cp:lastPrinted>2004-03-15T23:34:27Z</cp:lastPrinted>
  <dcterms:modified xsi:type="dcterms:W3CDTF">2007-02-03T01:01:39Z</dcterms:modified>
  <cp:revision>99</cp:revision>
  <dc:subject/>
  <dc:title>Optimizing Pixomatic For Modern Processors</dc:title>
</cp:coreProperties>
</file>