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C065-6323-4FDF-9B35-468595AE4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B3ED-5EC1-4063-9987-7EDC65B4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323E-0989-4429-A62A-C5B53C166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0D61-9026-43D4-897D-5D817E493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289C-3431-4286-9061-B172DE064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3615-702A-4898-B0FE-3C643D23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BC9A-BF3E-4FC8-9C50-21CC4570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5E72-338C-49CA-A0D9-D5E613D1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AFD2-1A43-4FAA-8170-2680F009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6FC8-3787-4C91-9EEA-15D92469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51F5-3557-4129-950E-F5308C07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697E-150E-46DB-AC2F-927CF524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2995-5D09-4235-8004-577F9EDD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D56D-0105-478E-9A87-04E42CBD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4CA4-D4CF-40D1-A9E7-F6E89CE8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E990-F965-4800-AC07-0FD04234F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B280-7DDA-473A-8E81-43A975F29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6C47-F5C2-4783-AE57-AF750820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744C-F379-42C5-9F5A-C253B5D7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4CBC-90E0-4DF8-A6A2-8993A277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844A-4C5B-4D44-AEED-52F0F583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9090-604C-4D0E-ABFF-69C8DF3A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7A92-FEBC-45BA-B287-15CE6A68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7D6A-1033-4534-BBB9-978C5621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20280" y="-418320"/>
            <a:ext cx="2669400" cy="7673760"/>
            <a:chOff x="-620280" y="-418320"/>
            <a:chExt cx="2669400" cy="7673760"/>
          </a:xfrm>
        </p:grpSpPr>
        <p:sp>
          <p:nvSpPr>
            <p:cNvPr id="1" name=""/>
            <p:cNvSpPr/>
            <p:nvPr/>
          </p:nvSpPr>
          <p:spPr>
            <a:xfrm rot="2700000">
              <a:off x="-320760" y="-11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2700000">
              <a:off x="-321120" y="-1191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2700000">
              <a:off x="-312480" y="-1116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700000">
              <a:off x="-308520" y="-1137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2700000">
              <a:off x="52920" y="2581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700000">
              <a:off x="-320040" y="1129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700000">
              <a:off x="-321480" y="1121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2700000">
              <a:off x="-312480" y="1129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700000">
              <a:off x="-308520" y="1127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2700000">
              <a:off x="52920" y="1504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2700000">
              <a:off x="-320040" y="2380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00000">
              <a:off x="-320040" y="363636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700000">
              <a:off x="-321480" y="362844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700000">
              <a:off x="-312480" y="36360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2700000">
              <a:off x="-308520" y="363420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2700000">
              <a:off x="52920" y="4006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2700000">
              <a:off x="-320760" y="488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8900000">
              <a:off x="290520" y="51660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8900000">
              <a:off x="281520" y="515880"/>
              <a:ext cx="144432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8900000">
              <a:off x="285840" y="51588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8900000">
              <a:off x="281160" y="51696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900000">
              <a:off x="688680" y="8960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900000">
              <a:off x="300240" y="1758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900000">
              <a:off x="291240" y="175752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900000">
              <a:off x="295200" y="1757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900000">
              <a:off x="285840" y="1758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900000">
              <a:off x="687960" y="2137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rot="2700000">
              <a:off x="-321480" y="2372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rot="2700000">
              <a:off x="-312480" y="2380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2700000">
              <a:off x="-303840" y="2378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2700000">
              <a:off x="52920" y="2755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900000">
              <a:off x="304920" y="300888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900000">
              <a:off x="305280" y="3008880"/>
              <a:ext cx="144432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900000">
              <a:off x="300600" y="3008160"/>
              <a:ext cx="144324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900000">
              <a:off x="290520" y="3009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900000">
              <a:off x="693000" y="3388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900000">
              <a:off x="300240" y="426492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900000">
              <a:off x="291240" y="426420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8900000">
              <a:off x="295200" y="426384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8900000">
              <a:off x="290520" y="426492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8900000">
              <a:off x="687960" y="464436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2700000">
              <a:off x="-321120" y="48747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700000">
              <a:off x="-312480" y="4882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700000">
              <a:off x="-308520" y="48801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700000">
              <a:off x="52920" y="5257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900000">
              <a:off x="300240" y="5511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8900000">
              <a:off x="291240" y="5510880"/>
              <a:ext cx="144360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8900000">
              <a:off x="295200" y="5510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8900000">
              <a:off x="285840" y="5511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900000">
              <a:off x="688680" y="58903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8C1B-F396-480C-9C1E-1759DCB4738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93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D473-3E62-4531-86F0-C88A22808D9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33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Optimizing Pixomatic For Modern Processor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9064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ichael Abras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AD Game Tools, In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From U,V To A Texture Addres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1828800"/>
            <a:ext cx="3047760" cy="609480"/>
          </a:xfrm>
          <a:prstGeom prst="rect">
            <a:avLst/>
          </a:prstGeom>
          <a:solidFill>
            <a:srgbClr val="99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00VV.vvvv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52880" y="1828800"/>
            <a:ext cx="304812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U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uuuuuu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8580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894800" y="243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7324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9876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4176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2264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20960" y="3733920"/>
            <a:ext cx="3047760" cy="60948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77120" y="3733920"/>
            <a:ext cx="153972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U.uu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164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910640" y="434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8908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1460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5760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3848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2136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0224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2136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0224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666880" y="2438280"/>
            <a:ext cx="0" cy="533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2971800"/>
            <a:ext cx="31244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2971800"/>
            <a:ext cx="0" cy="76212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43600" y="2438280"/>
            <a:ext cx="0" cy="533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43600" y="2971800"/>
            <a:ext cx="13716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15200" y="2971800"/>
            <a:ext cx="0" cy="76212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3733920"/>
            <a:ext cx="1524240" cy="609480"/>
          </a:xfrm>
          <a:prstGeom prst="rect">
            <a:avLst/>
          </a:prstGeom>
          <a:solidFill>
            <a:srgbClr val="99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00VV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20960" y="5562720"/>
            <a:ext cx="3047760" cy="60948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52880" y="5562720"/>
            <a:ext cx="306396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0 0 0 0VVUU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164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10640" y="617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8908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1460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5760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93848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2136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0224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4343400"/>
            <a:ext cx="0" cy="533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77120" y="4876920"/>
            <a:ext cx="76176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238880" y="4876920"/>
            <a:ext cx="0" cy="68580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23640" y="3047040"/>
            <a:ext cx="18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SHUF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15880" y="4906080"/>
            <a:ext cx="144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SR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Welded Code Sample 1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81080" y="1597680"/>
            <a:ext cx="670572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LoopTop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dd              esp,dword ptr [_RotatedFixed16ZXStep]       ; stepp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dc              esp,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ddsw        mm2,mmword ptr [_argb7x_GouraudXStep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ddd          mm0,mmword ptr _Spans+20h[esi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mp             sp,word ptr [ebx+ecx*2]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        ; z buffer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ja                 LoopBott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             word ptr [ebx+ecx*2],s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nd            mm0,mmword ptr [_TexMap]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; texture mapp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shufw        mm5,mm0,0D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srld            mm5,mmword ptr [_TexMap+28h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d           eax,mm5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d           mm7,dword ptr [edx+eax*4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q           mm6,mm2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; Gouraud shad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unpcklbw  mm7,dword ptr [_MMX_0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sllw           mm7,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mulhw       mm7,mm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ckuswb    mm7,mm7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               ; pixel pack/writ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d           dword ptr [edi+ecx*4],mm7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LoopBottom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inc              ecx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                       ; loop contro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jne              LoopTo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Welded Code Sample 2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3880" y="1829520"/>
            <a:ext cx="35053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LoopTop: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d         esp,dword ptr [_RotatedFixed16ZXStep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c         esp,0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sw      mm2,mmword ptr [_argb7x_GouraudXStep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d       mm0,mmword ptr _Spans+20h[esi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cmp         sp,word ptr [ebx+ecx*2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ja          LoopBottom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         word ptr [ebx+ecx*2],sp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nd        mm0,mmword ptr [_TexMap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hufw      mm6,mm0,0Dh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d       mm6,mmword ptr [_TexMap+2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eax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7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lld       mm6,mmword ptr [_TexMap+2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d         eax,dword ptr [_TexMap+0F4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nd         eax,dword ptr [_TexMap+0F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6,mmword ptr [_TexMap+40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d       mm6,mmword ptr [_TexMap+2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q        mm4,mm0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d       mm4,mmword ptr [_TexMap+4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nd        mm4,mmword ptr [_MMX_0x003F003F003F003F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5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eax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7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6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5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hufw      mm4,mm4,0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d         eax,dword ptr [_TexMap+0F4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2680" y="1813680"/>
            <a:ext cx="26971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nd         eax,dword ptr [_TexMap+0F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6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q        mmword ptr [_MMX_UFrac],mm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4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4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6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4,mm5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5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4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lw      mm6,mmword ptr [_MMX_UFrac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aw       mm6,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lw      mm4,mmword ptr [_MMX_UFrac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6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hufw      mm7,mm0,0AAh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w       mm7,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llw       mm5,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hw      mm4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hw      mm7,mm5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6,mm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7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ckuswb    mm7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q        mm6,mm2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7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llw       mm7,1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hw      mm7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ckuswb    mm7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dword ptr [edi+ecx*4]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LoopBottom: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inc         ecx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jne         LoopTop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Out Of Order Processing is Cool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 need to swizzle textu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 need to overlap divid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tra moves are often fre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ry Stuff And See What Stick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oop Unrolling Is Rarely A Win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rolling once sometimes help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Branch Prediction, And Unexpected Implications Thereof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inear Sear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35800" y="578160"/>
            <a:ext cx="2582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 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 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inear Branching Pattern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520" y="202608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s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99480" y="3748320"/>
            <a:ext cx="216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s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77880" y="1965240"/>
            <a:ext cx="216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s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79320" y="3717720"/>
            <a:ext cx="204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Binary Sear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65480" y="959760"/>
            <a:ext cx="2336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Assume Nothing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inear Versus Binary Sear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447920" y="1828800"/>
          <a:ext cx="7326360" cy="446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828800"/>
                    <a:ext cx="7326360" cy="44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Help The Data Cache Work Efficiently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5244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undreds of cycles per miss to mem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always hidden by caching and out-of-order process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n’t chase sparse point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void sparse accesses to large data structures in gener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SSE2 Didn’t Help Us Mu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 integer ops, half the speed of MM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ubled parallelism didn’t help 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quires yet another code pa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 doubles, only 2-way SIM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Small Changes -&gt; Huge Effect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uble alignment on sta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64K alias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Hyperthreading Didn’t Help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a good fit for a standard 3D pipel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tentially helpful for deferred render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Questions?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Pixomatic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X86 software render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indows and Linu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gh-end DX7-class feature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cept cubemap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w-end DX7-class performa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ak P4/3GHz performance, 1 texture+Gourau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33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10 megapixels/seco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33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86 million triangles/seco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A DX7-Class Rasterizer Turned Out To Be Possibl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Appropriate Technology In Appropriate Place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5244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stly 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line ASM in key pla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stom preprocess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lding - code compiled on the f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Pixel Pipeline Register Allocation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AX - scratch regis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X - z-buffer pixel addr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CX - loop cou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X - texture 0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I - span-list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I - pixel-buffer pixel addr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P - texture 0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P - 1/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0 - texture 0 coordinates (u0, v0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1 - texture 1 coordinates (u1, v1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2 - Gouraud col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3 - specular col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4-MM7 - scratch regist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Span Generation Register Allocation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52440" y="2209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AX - scratch register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X - -scanline leng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CX - 1/z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X - scratch regis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I - pixel-buffer pixel addres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P - span list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I - z-buffer pixel addres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P - stack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0 - previous span (u0, v0)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0 - 1/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1 - previous span (u1, v1)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1 - u0,v0,u1,v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2 - Gouraud GB component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2 - 1/w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3 - Gouraud AR component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3 - left edge 1/w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4 - specular GB component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4 - left edge 1/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3-MM7 - scratch register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5 - left edg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6-XMM7 - scratch register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  u0, v0, u1, v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MMX Pixel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05120" y="2438280"/>
            <a:ext cx="1523880" cy="533520"/>
          </a:xfrm>
          <a:prstGeom prst="rect">
            <a:avLst/>
          </a:prstGeom>
          <a:solidFill>
            <a:srgbClr val="80808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2438280"/>
            <a:ext cx="1523880" cy="53352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2438280"/>
            <a:ext cx="1524240" cy="53352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2438280"/>
            <a:ext cx="1523880" cy="5335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85800" y="2970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894800" y="297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26640" y="3808080"/>
            <a:ext cx="444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ach field has 8 integral bits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number of fractional bi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aries throughout the pipeli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exture Mapping Cod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8480" y="2514960"/>
            <a:ext cx="603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n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0,[WrapUV0Mask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shufw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5,mm0,0D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srl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5,[WrapUV0RightShift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v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ax,mm5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v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7,[edx+eax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d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0,[UV0Step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00:03:54Z</dcterms:created>
  <dc:creator>me</dc:creator>
  <dc:description/>
  <dc:language>en-US</dc:language>
  <cp:lastModifiedBy>TomF</cp:lastModifiedBy>
  <cp:lastPrinted>2004-03-15T23:34:27Z</cp:lastPrinted>
  <dcterms:modified xsi:type="dcterms:W3CDTF">2007-02-03T01:01:39Z</dcterms:modified>
  <cp:revision>99</cp:revision>
  <dc:subject/>
  <dc:title>Optimizing Pixomatic For Modern Processors</dc:title>
</cp:coreProperties>
</file>