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14.wmf" ContentType="image/x-wmf"/>
  <Override PartName="/ppt/media/image22.jpeg" ContentType="image/jpeg"/>
  <Override PartName="/ppt/media/image17.jpeg" ContentType="image/jpeg"/>
  <Override PartName="/ppt/media/image25.wmf" ContentType="image/x-wmf"/>
  <Override PartName="/ppt/media/image23.jpeg" ContentType="image/jpeg"/>
  <Override PartName="/ppt/media/image20.png" ContentType="image/png"/>
  <Override PartName="/ppt/media/image1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251-0A0D-4198-8831-62E7F279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52D-3AC8-4DF1-9AFF-F28DBC53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BB2-425C-4F83-8A10-232158CF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EBA-C213-4B8A-97BD-46E816EE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574A-3339-4B31-AF95-C8B3009B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DB2D-7A8A-4D35-8248-6CA953F9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BAEB-2317-478B-A644-9EEC2121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75D3-9BBA-4CC0-9F4D-C3B77A04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A99A-50E1-4E1E-949F-3BBC43AD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E5ED-4D32-4E93-B393-30ED113D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2A8C-B5DE-47EE-A157-D22F0A5B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1DF-23ED-40E9-83F8-A1043BB3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D3A9-D6CC-4B96-8F72-2B5882BB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8D9B-3C24-4BD8-BE69-F8A58F33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2350-04CD-43A9-ADCB-B1EB7220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B1B7-655C-4850-96D4-1A6DC881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C6D2-F2DC-419D-A094-54D25341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EA6-866F-4D97-9B4A-95401268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50E-015F-4D0D-AC20-4DC859FE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B4F4-74B7-4198-933F-6F4DE930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839960"/>
            <a:ext cx="7770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88C-AE2C-4711-94EE-C3407DDC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565-DB1D-4DAA-8D31-8E76C4E9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5E3-B896-4A2F-881A-7AED89C3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C4B-E22A-4526-A06E-AE7B53F2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144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371520"/>
            <a:ext cx="7770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360" y="1752120"/>
            <a:ext cx="7770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24320" y="380520"/>
            <a:ext cx="760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600" spc="-1" strike="noStrike">
                <a:solidFill>
                  <a:srgbClr val="cd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83E454-AC22-41E2-8165-5DFD2BA0F90C}" type="slidenum">
              <a:rPr b="0" lang="en-US" sz="2600" spc="-1" strike="noStrike">
                <a:solidFill>
                  <a:srgbClr val="cd33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839960"/>
            <a:ext cx="77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5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5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5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D6E1C-35F3-440D-963B-95E5DB7F16B5}" type="slidenum">
              <a:rPr b="0" lang="en-US" sz="1400" spc="-1" strike="noStrike">
                <a:solidFill>
                  <a:srgbClr val="a08366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15a0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e9964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e9964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811f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srl.nist.gov/index/prodname.index.txt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nec.com.tw/product/image/pda.jpg&amp;imgrefurl=http://www.nec.com.tw/product/pda.asp&amp;h=240&amp;w=232&amp;prev=/images%3Fq%3DPDA%26svnum%3D10%26hl%3Den%26lr%3Dlang_en%26ie%3DUTF-8%26oe%3DUTF-8%26safe%3Doff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http://www-132.ibm.com/webapp/wcs/stores/servlet/CategoryDisplay?catalogId=-840&amp;storeId=1&amp;langId=-1&amp;dualCurrId=73&amp;categoryId=2580118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5350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4000" spc="-1" strike="noStrike">
                <a:solidFill>
                  <a:srgbClr val="cd3333"/>
                </a:solidFill>
                <a:latin typeface="Comic Sans MS"/>
              </a:rPr>
              <a:t>Solving Computer Crime: An Introduction to 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738600"/>
            <a:ext cx="76201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lden G. Richard III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. of Computer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lf Coast Computer Forensics Laboratory (GCCF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File was deleted, it’s gone!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sers often mistake normal deletion of files for “secure” dele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eleted files recoverable using forensics tool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ilesystem makes a small change in its bookkeeping info to mark a file as delet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ata associated with file is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eras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: FAT32 (Windows), first character of filename is changed to 0xEF in directory entry to “delete”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Forensics software changes one character in directory entry, file reappear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prevent recovery, must perform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secure overwrite of the file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r physically destroy the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renamed the file, I’m safe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ildporn.jpg” </a:t>
            </a:r>
            <a:r>
              <a:rPr b="0" lang="en-US" sz="2400" spc="-1" strike="noStrike">
                <a:solidFill>
                  <a:srgbClr val="0811f7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“winword.exe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Renaming files is an ineffective defense against digital forensics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1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ile types (e.g., JPEG image) have a structure that can be recognized directly, regardless of the filename a user cho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PEG files contain 0x4a464946 or 0x45786966 in the first block of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echnique # 2: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yptographic hashing provides a mechanism for “fingerprinting”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contents is matched quickly, regardless of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es equivalent, file contents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:  fingerprints don’t care about hair col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Aside: Hash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Typical algorithms:  SHA-1, MD5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golden.jpg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rename golden.jpg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:&gt; md5sum 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28f08b004a7251a418e089ef3bb740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winword.exe</a:t>
            </a: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automate checking of hash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Huge dictionaries exist with hashes for known files: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nsrl.nist.gov/index/prodname.index.txt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and known child pornography files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811f7"/>
                </a:solidFill>
                <a:latin typeface="Arial"/>
              </a:rPr>
              <a:t>Can quickly disregard known files and target the interesting stuff</a:t>
            </a:r>
            <a:endParaRPr b="0" lang="en-US" sz="22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400" spc="-1" strike="noStrike">
                <a:solidFill>
                  <a:srgbClr val="cd3333"/>
                </a:solidFill>
                <a:latin typeface="Comic Sans MS"/>
              </a:rPr>
              <a:t>Fallacy: I format-ed the drive, whew!</a:t>
            </a:r>
            <a:endParaRPr b="0" lang="en-US" sz="34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ting a drive doe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prevent recovery of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n fact, format typically overwrites less than 1% of drive content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hy does it take so long?  Format is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reading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disk blocks to determine if bad blocks exi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mat wipes out directories, so </a:t>
            </a:r>
            <a:r>
              <a:rPr b="0" lang="en-HK" sz="2400" spc="-1" strike="noStrike" u="sng">
                <a:solidFill>
                  <a:srgbClr val="0811f7"/>
                </a:solidFill>
                <a:uFillTx/>
                <a:latin typeface="Arial"/>
              </a:rPr>
              <a:t>names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 of files are los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 lot of the data can still be recovered by sifting through data that remains after the format oper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or example, file carving tools reconstruct files by examining the initial and terminal bytes of the fil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e digital forensics Technique # 1 under file renaming fall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Fallacy: Media mutilation == Miller time!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1:  Cutting a floppy into piec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xample # 2:  Opening a hard drive, removing the platters, throwing them into the trash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Unless the damage is extreme, mutilation of magnetic media is insufficient to prevent recove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Media can be reassembled and partial recovery perform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Even strong magnetic fields are insufficien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Older “military grade” degausser for erasing hard drives was so strong that it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bent the platters inside the driv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Your bulk tape eraser isn’t going to do the job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To destroy data:  multiple overwrites (software) or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complete destruction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of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That’s One Big Degausser!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8274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: I used Web-based email…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allacy:  Use of web-based email rather than storing email messages directly on a computer is safer (in terms of thwarting recovery attempts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t’s not.  Even if you never download the email and immediately delete all messages on the server!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Recently viewed web pages are stored in web browser’s cach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ache is often in a hard-to-find place…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Internet Explorer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Tool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Internet Options </a:t>
            </a:r>
            <a:r>
              <a:rPr b="0" lang="en-HK" sz="2100" spc="-1" strike="noStrike">
                <a:solidFill>
                  <a:srgbClr val="fd2703"/>
                </a:solidFill>
                <a:latin typeface="Wingdings"/>
                <a:ea typeface="Wingdings"/>
              </a:rPr>
              <a:t></a:t>
            </a:r>
            <a:r>
              <a:rPr b="0" lang="en-HK" sz="2100" spc="-1" strike="noStrike">
                <a:solidFill>
                  <a:srgbClr val="fd2703"/>
                </a:solidFill>
                <a:latin typeface="Arial"/>
              </a:rPr>
              <a:t> Delete Files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clears the cache in IE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ee slide on recovery of deleted files for futility quotient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Files stored in browser cache are </a:t>
            </a:r>
            <a:r>
              <a:rPr b="0" lang="en-HK" sz="2100" spc="-1" strike="noStrike" u="sng">
                <a:solidFill>
                  <a:srgbClr val="0811f7"/>
                </a:solidFill>
                <a:uFillTx/>
                <a:latin typeface="Arial"/>
              </a:rPr>
              <a:t>not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 securely deleted when the cache is cleare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Browser cache mining tools bring recently viewed web pages, including web-based email messages, back to life in a flash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covery of web-based email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5361" b="37502"/>
          <a:stretch/>
        </p:blipFill>
        <p:spPr>
          <a:xfrm>
            <a:off x="1371600" y="1752480"/>
            <a:ext cx="6172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Fallacy: Application uninstalls are easy…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Illegal application installed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ear ensues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is uninstalled… (Am I safe?)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…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pplication files can still be undeleted, proving application was installed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Further steps to obscure installation: Securely overwrite application fil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w am I safe?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Nope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Remnants of installation can likely still be found in the Windows registr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Basically, if a user installs software and wants to permanently eradicate any traces, must securely erase the entire drive or destroy the hard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711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Fallacy: I encrypted my files…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encrypted file systems, if file is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ever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printed and spool directory isn’t encrypted, fragments may be left behin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On some systems (e.g., Windows 2000), a “recovery agent” is able to read all encrypted file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For Windows 2000, this is the administrator account, thus just need to break administrator password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Problem:  keys for truly secure encryption schemes ar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lo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slips of paper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for unencrypted password list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earch PDAs, phones, and organizers for passwords and encryption key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Software or hardware keystroke logg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Van Eck radia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If the file can’t be decrypted, the </a:t>
            </a:r>
            <a:r>
              <a:rPr b="0" lang="en-US" sz="2100" spc="-1" strike="noStrike" u="sng">
                <a:solidFill>
                  <a:srgbClr val="0811f7"/>
                </a:solidFill>
                <a:uFillTx/>
                <a:latin typeface="Arial"/>
              </a:rPr>
              <a:t>name</a:t>
            </a:r>
            <a:r>
              <a:rPr b="0" lang="en-US" sz="2100" spc="-1" strike="noStrike">
                <a:solidFill>
                  <a:srgbClr val="0811f7"/>
                </a:solidFill>
                <a:latin typeface="Arial"/>
              </a:rPr>
              <a:t> of the file may still be useful in prosecution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Digital Forensic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finition: “Tools and techniques to recover,    preserve, and examine digital evidence on or transmitted by digital devices.”</a:t>
            </a:r>
            <a:r>
              <a:rPr b="0" lang="en-US" sz="2800" spc="-1" strike="noStrike">
                <a:solidFill>
                  <a:srgbClr val="0811f7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811f7"/>
                </a:solidFill>
                <a:latin typeface="Arial"/>
              </a:rPr>
              <a:t>Devices include computers, PDAs, cellular phones, videogame consoles…</a:t>
            </a:r>
            <a:endParaRPr b="0" lang="en-US" sz="26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1676520"/>
            <a:ext cx="962280" cy="99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586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286000" y="4572000"/>
            <a:ext cx="2019240" cy="1938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086360" y="4390920"/>
            <a:ext cx="2895480" cy="213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676520" y="167652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4114800" y="1676520"/>
            <a:ext cx="65412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553080" y="304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4952880"/>
            <a:ext cx="1218960" cy="1182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6324480" y="1676520"/>
            <a:ext cx="6858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cd3333"/>
                </a:solidFill>
                <a:latin typeface="Comic Sans MS"/>
              </a:rPr>
              <a:t>Beowulf, Slayer of Poorly Chosen Passwords…</a:t>
            </a:r>
            <a:endParaRPr b="0" lang="en-US" sz="28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12501" b="0"/>
          <a:stretch/>
        </p:blipFill>
        <p:spPr>
          <a:xfrm>
            <a:off x="1752480" y="2438280"/>
            <a:ext cx="6096240" cy="4157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95240" y="182880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00000"/>
                </a:solidFill>
                <a:latin typeface="Arial"/>
              </a:rPr>
              <a:t>How good are your pass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anograph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“</a:t>
            </a: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echniques for hiding information within other information”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Historical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att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Text on wood under wax layer on a wax tab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nvisible” ink (e.g., writing with lemon juice)</a:t>
            </a: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Moder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Much more sophis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ploy powerful encryption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e documents w/in an image, video, or audio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idden documents can be harmless, or child pornography, bomb plan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2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3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62120" y="1752480"/>
            <a:ext cx="64278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4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166920" y="1752480"/>
            <a:ext cx="3051360" cy="3810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057320" y="2249640"/>
            <a:ext cx="207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pped in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c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hid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5440" y="579132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ing in this case is not obvious (visually)…and image w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embedded Golden is actually smaller (in bytes) than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51400" y="2209680"/>
            <a:ext cx="2603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tatist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by “stegdetect” gu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correctly that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is hidden.  But jph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uses Blowfis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cramble the order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embedded data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successful extra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very unlikely unle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80e35"/>
                </a:solidFill>
                <a:latin typeface="Arial"/>
              </a:rPr>
              <a:t>password is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95280" y="4191120"/>
            <a:ext cx="1905120" cy="18288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438280" y="3122640"/>
            <a:ext cx="914400" cy="10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03680" y="2909520"/>
            <a:ext cx="2514600" cy="14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1981080"/>
            <a:ext cx="1676160" cy="1143000"/>
          </a:xfrm>
          <a:prstGeom prst="rect">
            <a:avLst/>
          </a:prstGeom>
          <a:solidFill>
            <a:srgbClr val="ce9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000000"/>
                </a:solidFill>
                <a:latin typeface="Arial"/>
              </a:rPr>
              <a:t>Ign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65720" y="1631880"/>
            <a:ext cx="2359080" cy="2338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18000" y="4299120"/>
            <a:ext cx="2132280" cy="211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85040" y="39178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Stego (5)</a:t>
            </a:r>
            <a:r>
              <a:rPr b="0" lang="en-US" sz="4000" spc="-1" strike="noStrike">
                <a:solidFill>
                  <a:srgbClr val="cd3333"/>
                </a:solidFill>
                <a:latin typeface="Comic Sans MS"/>
              </a:rPr>
              <a:t>‏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1984320" y="60199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This “bomb” diagram, howe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is </a:t>
            </a:r>
            <a:r>
              <a:rPr b="0" lang="en-HK" sz="1800" spc="-1" strike="noStrike" u="sng">
                <a:solidFill>
                  <a:srgbClr val="f80e35"/>
                </a:solidFill>
                <a:uFillTx/>
                <a:latin typeface="Arial"/>
              </a:rPr>
              <a:t>not</a:t>
            </a:r>
            <a:r>
              <a:rPr b="0" lang="en-HK" sz="1800" spc="-1" strike="noStrike">
                <a:solidFill>
                  <a:srgbClr val="f80e35"/>
                </a:solidFill>
                <a:latin typeface="Arial"/>
              </a:rPr>
              <a:t> detected inside the cactus pict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cd3333"/>
                </a:solidFill>
                <a:latin typeface="Comic Sans MS"/>
              </a:rPr>
              <a:t>Bluepipe: On the Spot Digital Forensics</a:t>
            </a:r>
            <a:endParaRPr b="0" lang="en-US" sz="3200" spc="-1" strike="noStrike">
              <a:solidFill>
                <a:srgbClr val="cd3333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2343240"/>
            <a:ext cx="80769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Legal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nvestigative needs vs. the right to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Search warrant laws, e.g., Fourth Amendment to the U.S. Constitu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iretap law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Chain of custod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Admissibility of evidence in court: Dauber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Has theory or technique in question been tested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Is error rate known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615a06"/>
                </a:solidFill>
                <a:latin typeface="Arial"/>
              </a:rPr>
              <a:t>Widespread acceptance within a relevant scientific community? </a:t>
            </a:r>
            <a:endParaRPr b="0" lang="en-US" sz="18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atriot Act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ly expands governmental powers in terms of searching, wiretap w/o prior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The Other Side:  Privacy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We’ve concentrated on the cool technology, but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The existence of sophisticated digital forensics techniques is a great enabler for fascism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Actively fight laws that don’t appropriately balance privacy with need for investigation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Secure file deletion softwar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Overwriting files with zeros is good enough unless a tunneling electron microscope is available…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Volatile computing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400" spc="-1" strike="noStrike">
                <a:solidFill>
                  <a:srgbClr val="0811f7"/>
                </a:solidFill>
                <a:latin typeface="Arial"/>
              </a:rPr>
              <a:t>Physical destruction of media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Grind the media into 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Vats of acid or molten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Resourc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Evidence and Computer Crime (E. Casey, Academic Pres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Forensics and Privacy (M. Caloyannides, Artech Hous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Websites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frw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s of references related to digital forensics, including a link to an interesting e-journal…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jde.org/ (International Journal of Digital Evidence)</a:t>
            </a:r>
            <a:r>
              <a:rPr b="0" lang="en-US" sz="1600" spc="-1" strike="noStrike">
                <a:solidFill>
                  <a:srgbClr val="615a0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p.poly.edu/kulesh/forensics/list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s of stuff, including a bunch of online papers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tucofs.com/tucofs/tucofs.asp?mode=main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15a06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ge collection of forensics-related software</a:t>
            </a:r>
            <a:endParaRPr b="0" lang="en-US" sz="1600" spc="-1" strike="noStrike">
              <a:solidFill>
                <a:srgbClr val="615a06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811f7"/>
                </a:solidFill>
                <a:latin typeface="Arial"/>
              </a:rPr>
              <a:t>Commercial digital forensics software</a:t>
            </a: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K (Forensics Tool Ki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ook (law enforcement onl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H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amples of Digital Evidence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Computers increasingly involved in criminal and corporate investigation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Digital evidence may play a supporting role or be the “smoking gun”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mail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Harassment or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Black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Illegal transmission of internal corporat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Meeting points/times for drug deal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Suicide letter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Technical data for bomb making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Image or digital video files (esp., child pornography)</a:t>
            </a: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5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811f7"/>
                </a:solidFill>
                <a:latin typeface="Arial"/>
              </a:rPr>
              <a:t>Evidence of inappropriate use of computer resources or attacks</a:t>
            </a:r>
            <a:endParaRPr b="0" lang="en-US" sz="21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as a spam email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Use of a machine to distribute illegally copi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ntation available: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040" y="3738600"/>
            <a:ext cx="7924680" cy="28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000099"/>
                </a:solidFill>
                <a:latin typeface="Arial"/>
              </a:rPr>
              <a:t>http://www.cs.uno.edu/~golden/teac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HK" sz="3200" spc="-1" strike="noStrike">
                <a:solidFill>
                  <a:srgbClr val="000099"/>
                </a:solidFill>
                <a:latin typeface="Arial"/>
              </a:rPr>
              <a:t>golden@cs.uno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fd2703"/>
                </a:solidFill>
                <a:latin typeface="Arial"/>
              </a:rPr>
              <a:t>Office: Math 3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04920"/>
            <a:ext cx="259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Major Issues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18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Identification of potential digital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might the evidence be?   Which devices did the suspect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Preserv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crime scen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tabilize evidence…prevent loss and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ossible, make identical copies of evidence for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Careful extraction and examination of evidence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esentation 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 was fubared, but using a hex editor I changed the first byte of directory entry 13 from 0xEF to 0x08 to restore ‘HITLIST.DOC’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spect attempted to hide the Microsoft Word document ‘HITLIST.DOC’ but I was able to recover it without tampering with the file content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811f7"/>
                </a:solidFill>
                <a:latin typeface="Arial"/>
              </a:rPr>
              <a:t>Legal: Investigatory needs meet privacy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000" spc="-1" strike="noStrike">
                <a:solidFill>
                  <a:srgbClr val="cd3333"/>
                </a:solidFill>
                <a:latin typeface="Comic Sans MS"/>
              </a:rPr>
              <a:t>Preservation of Evidence: Hardly trivial…</a:t>
            </a:r>
            <a:endParaRPr b="0" lang="en-US" sz="3000" spc="-1" strike="noStrike">
              <a:solidFill>
                <a:srgbClr val="cd3333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9920" y="1981080"/>
            <a:ext cx="1158840" cy="3124440"/>
            <a:chOff x="1069920" y="1981080"/>
            <a:chExt cx="1158840" cy="31244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295280" y="1981080"/>
              <a:ext cx="83520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069920" y="3886200"/>
              <a:ext cx="11588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1676520" y="3351240"/>
              <a:ext cx="144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428640" y="61437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0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809880" y="4952880"/>
            <a:ext cx="5032800" cy="1516680"/>
            <a:chOff x="3809880" y="4952880"/>
            <a:chExt cx="5032800" cy="151668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3809880" y="5181480"/>
              <a:ext cx="13716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7086600" y="5181480"/>
              <a:ext cx="144792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779880" y="6070680"/>
              <a:ext cx="206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2000" spc="-1" strike="noStrike">
                  <a:solidFill>
                    <a:srgbClr val="000000"/>
                  </a:solidFill>
                  <a:latin typeface="Arial"/>
                </a:rPr>
                <a:t>Basement/clos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29200" y="5486400"/>
              <a:ext cx="205740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3840" y="4952880"/>
              <a:ext cx="21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fd2703"/>
                  </a:solidFill>
                  <a:latin typeface="Arial"/>
                </a:rPr>
                <a:t>wireless conn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9200" y="5638680"/>
              <a:ext cx="2057400" cy="1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9880" y="1752480"/>
            <a:ext cx="4786560" cy="1990800"/>
            <a:chOff x="3809880" y="1752480"/>
            <a:chExt cx="4786560" cy="199080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8048520" y="1752480"/>
              <a:ext cx="547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6029280" y="1895400"/>
              <a:ext cx="16574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809880" y="1828800"/>
              <a:ext cx="1981440" cy="1447920"/>
            </a:xfrm>
            <a:prstGeom prst="borderCallout2">
              <a:avLst>
                <a:gd name="adj1" fmla="val 18750"/>
                <a:gd name="adj2" fmla="val -8333"/>
                <a:gd name="adj3" fmla="val 7893"/>
                <a:gd name="adj4" fmla="val 126282"/>
                <a:gd name="adj5" fmla="val 37500"/>
                <a:gd name="adj6" fmla="val 1495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Dear Susa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HK" sz="1800" spc="-1" strike="noStrike">
                  <a:solidFill>
                    <a:srgbClr val="000000"/>
                  </a:solidFill>
                  <a:latin typeface="Arial"/>
                </a:rPr>
                <a:t>It’s not your fault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91520" y="2362320"/>
              <a:ext cx="685800" cy="1440"/>
            </a:xfrm>
            <a:prstGeom prst="line">
              <a:avLst/>
            </a:prstGeom>
            <a:ln w="38160">
              <a:solidFill>
                <a:srgbClr val="fd27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7743960" y="3057480"/>
              <a:ext cx="60012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"/>
          <p:cNvSpPr/>
          <p:nvPr/>
        </p:nvSpPr>
        <p:spPr>
          <a:xfrm>
            <a:off x="7315200" y="2819520"/>
            <a:ext cx="609480" cy="30456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76" y="152"/>
                  <a:pt x="368" y="112"/>
                  <a:pt x="336" y="96"/>
                </a:cubicBezTo>
                <a:cubicBezTo>
                  <a:pt x="304" y="80"/>
                  <a:pt x="216" y="112"/>
                  <a:pt x="192" y="96"/>
                </a:cubicBezTo>
                <a:cubicBezTo>
                  <a:pt x="168" y="80"/>
                  <a:pt x="224" y="0"/>
                  <a:pt x="192" y="0"/>
                </a:cubicBezTo>
                <a:cubicBezTo>
                  <a:pt x="160" y="0"/>
                  <a:pt x="80" y="48"/>
                  <a:pt x="0" y="9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3505320"/>
            <a:ext cx="5161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Just pull the plug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Move the mouse for a quick p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HK" sz="2400" spc="-1" strike="noStrike">
                <a:solidFill>
                  <a:srgbClr val="fd2703"/>
                </a:solidFill>
                <a:latin typeface="Arial"/>
              </a:rPr>
              <a:t>                               </a:t>
            </a:r>
            <a:r>
              <a:rPr b="1" lang="en-HK" sz="2400" spc="-1" strike="noStrike">
                <a:solidFill>
                  <a:srgbClr val="0066ff"/>
                </a:solidFill>
                <a:latin typeface="Arial"/>
              </a:rPr>
              <a:t>Trip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765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ck…tick…ti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95480" y="5200560"/>
            <a:ext cx="2057400" cy="137160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19080">
            <a:solidFill>
              <a:srgbClr val="fd27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Volati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21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2146320" cy="3733920"/>
          </a:xfrm>
          <a:custGeom>
            <a:avLst/>
            <a:gdLst/>
            <a:ahLst/>
            <a:rect l="l" t="t" r="r" b="b"/>
            <a:pathLst>
              <a:path w="1352" h="2352">
                <a:moveTo>
                  <a:pt x="0" y="2352"/>
                </a:moveTo>
                <a:cubicBezTo>
                  <a:pt x="524" y="2280"/>
                  <a:pt x="1048" y="2208"/>
                  <a:pt x="1200" y="2064"/>
                </a:cubicBezTo>
                <a:cubicBezTo>
                  <a:pt x="1352" y="1920"/>
                  <a:pt x="920" y="1688"/>
                  <a:pt x="912" y="1488"/>
                </a:cubicBezTo>
                <a:cubicBezTo>
                  <a:pt x="904" y="1288"/>
                  <a:pt x="1104" y="1112"/>
                  <a:pt x="1152" y="864"/>
                </a:cubicBezTo>
                <a:cubicBezTo>
                  <a:pt x="1200" y="616"/>
                  <a:pt x="1200" y="308"/>
                  <a:pt x="1200" y="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4267080"/>
            <a:ext cx="6019560" cy="482760"/>
          </a:xfrm>
          <a:custGeom>
            <a:avLst/>
            <a:gdLst/>
            <a:ahLst/>
            <a:rect l="l" t="t" r="r" b="b"/>
            <a:pathLst>
              <a:path w="3792" h="304">
                <a:moveTo>
                  <a:pt x="0" y="288"/>
                </a:moveTo>
                <a:cubicBezTo>
                  <a:pt x="184" y="264"/>
                  <a:pt x="368" y="240"/>
                  <a:pt x="528" y="240"/>
                </a:cubicBezTo>
                <a:cubicBezTo>
                  <a:pt x="688" y="240"/>
                  <a:pt x="800" y="304"/>
                  <a:pt x="960" y="288"/>
                </a:cubicBezTo>
                <a:cubicBezTo>
                  <a:pt x="1120" y="272"/>
                  <a:pt x="1248" y="168"/>
                  <a:pt x="1488" y="144"/>
                </a:cubicBezTo>
                <a:cubicBezTo>
                  <a:pt x="1728" y="120"/>
                  <a:pt x="2112" y="168"/>
                  <a:pt x="2400" y="144"/>
                </a:cubicBezTo>
                <a:cubicBezTo>
                  <a:pt x="2688" y="120"/>
                  <a:pt x="2984" y="0"/>
                  <a:pt x="3216" y="0"/>
                </a:cubicBezTo>
                <a:cubicBezTo>
                  <a:pt x="3448" y="0"/>
                  <a:pt x="3620" y="72"/>
                  <a:pt x="3792" y="144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724280"/>
            <a:ext cx="622080" cy="1905120"/>
          </a:xfrm>
          <a:custGeom>
            <a:avLst/>
            <a:gdLst/>
            <a:ahLst/>
            <a:rect l="l" t="t" r="r" b="b"/>
            <a:pathLst>
              <a:path w="392" h="1200">
                <a:moveTo>
                  <a:pt x="0" y="0"/>
                </a:moveTo>
                <a:cubicBezTo>
                  <a:pt x="88" y="60"/>
                  <a:pt x="176" y="120"/>
                  <a:pt x="240" y="240"/>
                </a:cubicBezTo>
                <a:cubicBezTo>
                  <a:pt x="304" y="360"/>
                  <a:pt x="392" y="592"/>
                  <a:pt x="384" y="720"/>
                </a:cubicBezTo>
                <a:cubicBezTo>
                  <a:pt x="376" y="848"/>
                  <a:pt x="216" y="928"/>
                  <a:pt x="192" y="1008"/>
                </a:cubicBezTo>
                <a:cubicBezTo>
                  <a:pt x="168" y="1088"/>
                  <a:pt x="204" y="1144"/>
                  <a:pt x="240" y="1200"/>
                </a:cubicBezTo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Preservation: Imaging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518148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When making copies of media to be investigated, </a:t>
            </a:r>
            <a:r>
              <a:rPr b="0" lang="en-US" sz="2400" spc="-1" strike="noStrike" u="sng">
                <a:solidFill>
                  <a:srgbClr val="0811f7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 prevent accidental modification or destruction of evidence!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d2703"/>
                </a:solidFill>
                <a:latin typeface="Arial"/>
              </a:rPr>
              <a:t>Write blockers:  Use them.  Always.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d under Linux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DOS boot floppie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811f7"/>
                </a:solidFill>
                <a:latin typeface="Arial"/>
              </a:rPr>
              <a:t>Proprietary imaging solutions</a:t>
            </a: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811f7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77120" y="1905120"/>
            <a:ext cx="1942920" cy="3875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2640" y="579132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ivel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l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105520" y="2589120"/>
            <a:ext cx="1523880" cy="1069920"/>
          </a:xfrm>
          <a:prstGeom prst="line">
            <a:avLst/>
          </a:prstGeom>
          <a:ln w="19080">
            <a:solidFill>
              <a:srgbClr val="fd27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Extraction and Examination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Know where evidence can be found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Understand techniques used to hide or “destroy” digital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olbox of techniques to discover hidden data and recover “destroyed” data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Cope with HUGE quantities of digital data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Ignore the irrelevant and target the relevant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4000" spc="-1" strike="noStrike">
                <a:solidFill>
                  <a:srgbClr val="cd3333"/>
                </a:solidFill>
                <a:latin typeface="Comic Sans MS"/>
              </a:rPr>
              <a:t>Where’s the evidence?</a:t>
            </a:r>
            <a:endParaRPr b="0" lang="en-US" sz="40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Undeleted files, expect some names to be incorrect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Deleted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Windows registry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Print spool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Hibernation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Temp files (all those .TMP files!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lack space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Swap fil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Browser cache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Alternate partitions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24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On a variety of removable media (floppies, ZIP, Jazz, tapes, …)</a:t>
            </a:r>
            <a:r>
              <a:rPr b="0" lang="en-HK" sz="2500" spc="-1" strike="noStrike">
                <a:solidFill>
                  <a:srgbClr val="0811f7"/>
                </a:solidFill>
                <a:latin typeface="Arial"/>
              </a:rPr>
              <a:t>‏</a:t>
            </a:r>
            <a:endParaRPr b="0" lang="en-US" sz="25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0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330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3600" spc="-1" strike="noStrike">
                <a:solidFill>
                  <a:srgbClr val="cd3333"/>
                </a:solidFill>
                <a:latin typeface="Comic Sans MS"/>
              </a:rPr>
              <a:t>Fallacy vs. Fact in Digital Forensics</a:t>
            </a:r>
            <a:endParaRPr b="0" lang="en-US" sz="3600" spc="-1" strike="noStrike">
              <a:solidFill>
                <a:srgbClr val="cd3333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Many digital forensics tools and techniques are quite complex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Very difficult to cover in a short lecture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o illustrate investigative procedures for digital forensics, a fact vs. fallacy approach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fd2703"/>
                </a:solidFill>
                <a:latin typeface="Arial"/>
              </a:rPr>
              <a:t>Fallacy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User attempting to hide evidence believes one thing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9a914"/>
                </a:solidFill>
                <a:latin typeface="Arial"/>
              </a:rPr>
              <a:t>Fact:</a:t>
            </a: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  But in fact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Look at a few fact vs. fallacy scenarios…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811f7"/>
              </a:buClr>
              <a:buSzPct val="90000"/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2800" spc="-1" strike="noStrike">
                <a:solidFill>
                  <a:srgbClr val="0811f7"/>
                </a:solidFill>
                <a:latin typeface="Arial"/>
              </a:rPr>
              <a:t>Then, one more advanced topic</a:t>
            </a:r>
            <a:endParaRPr b="0" lang="en-US" sz="2800" spc="-1" strike="noStrike">
              <a:solidFill>
                <a:srgbClr val="0811f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lden G. Richard III, Ph.D.</dc:creator>
  <dc:description/>
  <dc:language>en-US</dc:language>
  <cp:lastModifiedBy>Golden G. Richard III</cp:lastModifiedBy>
  <cp:revision>0</cp:revision>
  <dc:subject/>
  <dc:title>Computer Security Fall 2002</dc:title>
</cp:coreProperties>
</file>