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9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14.wmf" ContentType="image/x-wmf"/>
  <Override PartName="/ppt/media/image22.jpeg" ContentType="image/jpeg"/>
  <Override PartName="/ppt/media/image17.jpeg" ContentType="image/jpeg"/>
  <Override PartName="/ppt/media/image25.wmf" ContentType="image/x-wmf"/>
  <Override PartName="/ppt/media/image23.jpeg" ContentType="image/jpeg"/>
  <Override PartName="/ppt/media/image20.png" ContentType="image/png"/>
  <Override PartName="/ppt/media/image18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F60-52A4-4E0A-986B-5C460963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919-619A-423A-A846-59E8968B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01A7-184B-4FC4-B40D-8C03C6DA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C73B-9115-4EF6-A375-A8A6AB67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9AAB-03C2-4DA7-8349-00161EB9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E8B9-EFAB-4AED-A6CD-02BB42FB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E1E5-C4C1-4F09-AF09-FC49A48A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2FC8-5F19-4A69-9F05-C8869EFC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53EE-21F2-4D81-A807-DD71B151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839960"/>
            <a:ext cx="7770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F39E-D032-4DD8-9DED-6034EAC7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B600-53F3-4816-B457-C1AD9225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6219-CB33-4463-A5F7-6CD49B7F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1E77-5E19-411A-B66B-CADABC85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9182-D956-49B3-A5DC-58863315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0FC5-C8D9-4752-8D97-050B36CA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611D-FA88-4AC5-ADCC-369DDB4A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6AA9-829E-4EB7-B88C-1FD794A1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BFA0-9F40-48B1-B44E-5089BADD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25A-4B71-4D7A-9AE2-36DAA351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B63-3B48-4DF3-A09C-C5C6E82A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839960"/>
            <a:ext cx="7770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D458-DF2B-4191-A67C-B36DE1B5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EB9-0560-4C23-B8AD-982701C6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DAB-EB03-4C22-B97E-BBF386E7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8F0-39AE-4390-B62E-8F5181B9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144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715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360" y="1752120"/>
            <a:ext cx="777060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15a0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924320" y="380520"/>
            <a:ext cx="760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600" spc="-1" strike="noStrike">
                <a:solidFill>
                  <a:srgbClr val="cd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48E667-97DC-404A-9634-E79F8F8F67C5}" type="slidenum">
              <a:rPr b="0" lang="en-US" sz="2600" spc="-1" strike="noStrike">
                <a:solidFill>
                  <a:srgbClr val="cd3333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5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5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5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08833-8E41-42AF-88FD-A75BE4057EF0}" type="slidenum"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15a0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srl.nist.gov/index/prodname.index.txt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nec.com.tw/product/image/pda.jpg&amp;imgrefurl=http://www.nec.com.tw/product/pda.asp&amp;h=240&amp;w=232&amp;prev=/images%3Fq%3DPDA%26svnum%3D10%26hl%3Den%26lr%3Dlang_en%26ie%3DUTF-8%26oe%3DUTF-8%26safe%3Doff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http://www-132.ibm.com/webapp/wcs/stores/servlet/CategoryDisplay?catalogId=-840&amp;storeId=1&amp;langId=-1&amp;dualCurrId=73&amp;categoryId=2580118" TargetMode="External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53504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4000" spc="-1" strike="noStrike">
                <a:solidFill>
                  <a:srgbClr val="cd3333"/>
                </a:solidFill>
                <a:latin typeface="Comic Sans MS"/>
              </a:rPr>
              <a:t>Solving Computer Crime: An Introduction to Digital Forensic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738600"/>
            <a:ext cx="7620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olden G. Richard III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. of Computer Sci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lf Coast Computer Forensics Laboratory (GCCF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golden@cs.uno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: File was deleted, it’s gone!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Users often mistake normal deletion of files for “secure” dele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eleted files recoverable using forensics tool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Filesystem makes a small change in its bookkeeping info to mark a file as delet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ata associated with file is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eras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: FAT32 (Windows), first character of filename is changed to 0xEF in directory entry to “delete” fil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Forensics software changes one character in directory entry, file reappear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o prevent recovery, must perform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secure overwrite of the file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or physically destroy the media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400" spc="-1" strike="noStrike">
                <a:solidFill>
                  <a:srgbClr val="cd3333"/>
                </a:solidFill>
                <a:latin typeface="Comic Sans MS"/>
              </a:rPr>
              <a:t>Fallacy: I renamed the file, I’m safe!</a:t>
            </a:r>
            <a:endParaRPr b="0" lang="en-US" sz="34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childporn.jpg” </a:t>
            </a:r>
            <a:r>
              <a:rPr b="0" lang="en-US" sz="2400" spc="-1" strike="noStrike">
                <a:solidFill>
                  <a:srgbClr val="0811f7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“winword.exe”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Renaming files is an ineffective defense against digital forensics investig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echnique # 1: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ile types (e.g., JPEG image) have a structure that can be recognized directly, regardless of the filename a user cho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JPEG files contain 0x4a464946 or 0x45786966 in the first block of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echnique # 2: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ptographic hashing provides a mechanism for “fingerprinting”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contents is matched quickly, regardless of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es equivalent, file contents e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:  fingerprints don’t care about hair col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Aside: Hashing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Typical algorithms:  SHA-1, MD5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md5sum golden.jpg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8f08b004a7251a418e089ef3bb740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golden.jpg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rename golden.jpg 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md5sum 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8f08b004a7251a418e089ef3bb740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Can automate checking of hashes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Huge dictionaries exist with hashes for known files: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nsrl.nist.gov/index/prodname.index.txt</a:t>
            </a: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…</a:t>
            </a: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and known child pornography files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Can quickly disregard known files and target the interesting stuff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400" spc="-1" strike="noStrike">
                <a:solidFill>
                  <a:srgbClr val="cd3333"/>
                </a:solidFill>
                <a:latin typeface="Comic Sans MS"/>
              </a:rPr>
              <a:t>Fallacy: I format-ed the drive, whew!</a:t>
            </a:r>
            <a:endParaRPr b="0" lang="en-US" sz="34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matting a drive does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prevent recovery of digital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In fact, format typically overwrites less than 1% of drive content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Why does it take so long?  Format is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reading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disk blocks to determine if bad blocks exis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mat wipes out directories, so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names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of files are los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 lot of the data can still be recovered by sifting through data that remains after the format oper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 example, file carving tools reconstruct files by examining the initial and terminal bytes of the fil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See digital forensics Technique # 1 under file renaming fall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000" spc="-1" strike="noStrike">
                <a:solidFill>
                  <a:srgbClr val="cd3333"/>
                </a:solidFill>
                <a:latin typeface="Comic Sans MS"/>
              </a:rPr>
              <a:t>Fallacy: Media mutilation == Miller time!</a:t>
            </a:r>
            <a:endParaRPr b="0" lang="en-US" sz="3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 # 1:  Cutting a floppy into piec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 # 2:  Opening a hard drive, removing the platters, throwing them into the trash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Unless the damage is extreme, mutilation of magnetic media is insufficient to prevent recover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Media can be reassembled and partial recovery perform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ven strong magnetic fields are insufficient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Older “military grade” degausser for erasing hard drives was so strong that it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bent the platters inside the driv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Your bulk tape eraser isn’t going to do the job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o destroy data:  multiple overwrites (software) or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complete destruction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of hard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That’s One Big Degausser!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28274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: I used Web-based email…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Fallacy:  Use of web-based email rather than storing email messages directly on a computer is safer (in terms of thwarting recovery attempts)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It’s not.  Even if you never download the email and immediately delete all messages on the server!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Recently viewed web pages are stored in web browser’s cache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Cache is often in a hard-to-find place…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Internet Explorer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Tools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Internet Options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Delete Files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 clears the cache in IE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See slide on recovery of deleted files for futility quotient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Files stored in browser cache are </a:t>
            </a:r>
            <a:r>
              <a:rPr b="0" lang="en-HK" sz="21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 securely deleted when the cache is cleare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Browser cache mining tools bring recently viewed web pages, including web-based email messages, back to life in a flash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71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Recovery of web-based email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5361" b="37502"/>
          <a:stretch/>
        </p:blipFill>
        <p:spPr>
          <a:xfrm>
            <a:off x="1371600" y="1752480"/>
            <a:ext cx="6172200" cy="48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cd3333"/>
                </a:solidFill>
                <a:latin typeface="Comic Sans MS"/>
              </a:rPr>
              <a:t>Fallacy: Application uninstalls are easy…</a:t>
            </a:r>
            <a:endParaRPr b="0" lang="en-US" sz="32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Illegal application installed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ear ensues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pplication is uninstalled… (Am I safe?)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…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pplication files can still be undeleted, proving application was install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urther steps to obscure installation: Securely overwrite application fil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Now am I safe?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Nope.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Remnants of installation can likely still be found in the Windows registr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Basically, if a user installs software and wants to permanently eradicate any traces, must securely erase the entire drive or destroy the hard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371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Fallacy: I encrypted my files…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On encrypted file systems, if file is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ever</a:t>
            </a: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 printed and spool directory isn’t encrypted, fragments may be left behin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On some systems (e.g., Windows 2000), a “recovery agent” is able to read all encrypted file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For Windows 2000, this is the administrator account, thus just need to break administrator passwor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Problem:  keys for truly secure encryption schemes are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long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for slips of paper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for unencrypted password list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PDAs, phones, and organizers for passwords and encryption key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oftware or hardware keystroke logger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Van Eck radiation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If the file can’t be decrypted, the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name</a:t>
            </a: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 of the file may still be useful in prosecution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Digital Forensic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811f7"/>
                </a:solidFill>
                <a:latin typeface="Arial"/>
              </a:rPr>
              <a:t>Definition: “Tools and techniques to recover,    preserve, and examine digital evidence on or transmitted by digital devices.”</a:t>
            </a:r>
            <a:r>
              <a:rPr b="0" lang="en-US" sz="2800" spc="-1" strike="noStrike">
                <a:solidFill>
                  <a:srgbClr val="0811f7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811f7"/>
                </a:solidFill>
                <a:latin typeface="Arial"/>
              </a:rPr>
              <a:t>Devices include computers, PDAs, cellular phones, videogame consoles…</a:t>
            </a:r>
            <a:endParaRPr b="0" lang="en-US" sz="2600" spc="-1" strike="noStrike">
              <a:solidFill>
                <a:srgbClr val="0811f7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1676520"/>
            <a:ext cx="962280" cy="99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586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286000" y="4572000"/>
            <a:ext cx="2019240" cy="1938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086360" y="4390920"/>
            <a:ext cx="2895480" cy="2138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676520" y="1676520"/>
            <a:ext cx="66672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4114800" y="1676520"/>
            <a:ext cx="65412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553080" y="304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2120" y="4952880"/>
            <a:ext cx="1218960" cy="1182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6324480" y="1676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cd3333"/>
                </a:solidFill>
                <a:latin typeface="Comic Sans MS"/>
              </a:rPr>
              <a:t>Beowulf, Slayer of Poorly Chosen Passwords…</a:t>
            </a:r>
            <a:endParaRPr b="0" lang="en-US" sz="28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12501" b="0"/>
          <a:stretch/>
        </p:blipFill>
        <p:spPr>
          <a:xfrm>
            <a:off x="1752480" y="2438280"/>
            <a:ext cx="6096240" cy="4157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95240" y="182880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00000"/>
                </a:solidFill>
                <a:latin typeface="Arial"/>
              </a:rPr>
              <a:t>How good are your passwor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anography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“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Techniques for hiding information within other information”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Historical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Tatto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Text on wood under wax layer on a wax tab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Invisible” ink (e.g., writing with lemon juice)</a:t>
            </a: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Moder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Much more sophist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ploy powerful encryp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ide documents w/in an image, video, or audio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idden documents can be harmless, or child pornography, bomb plan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2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62120" y="1752480"/>
            <a:ext cx="64278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3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62120" y="1752480"/>
            <a:ext cx="64278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4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166920" y="1752480"/>
            <a:ext cx="3051360" cy="3810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57320" y="2249640"/>
            <a:ext cx="207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pped i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c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phide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35440" y="5791320"/>
            <a:ext cx="735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bedding in this case is not obvious (visually)…and image w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bedded Golden is actually smaller (in bytes) than orig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51400" y="2209680"/>
            <a:ext cx="260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tatist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by “stegdetect” gu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correctly that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is hidden.  But jph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uses Blowfish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cramble the order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embedded data,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uccessful extrac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very unlikely unles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password is kn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95280" y="4191120"/>
            <a:ext cx="1905120" cy="18288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438280" y="3122640"/>
            <a:ext cx="914400" cy="10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03680" y="2909520"/>
            <a:ext cx="2514600" cy="145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1981080"/>
            <a:ext cx="1676160" cy="1143000"/>
          </a:xfrm>
          <a:prstGeom prst="rect">
            <a:avLst/>
          </a:prstGeom>
          <a:solidFill>
            <a:srgbClr val="ce9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Ign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265720" y="1631880"/>
            <a:ext cx="2359080" cy="2338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418000" y="4299120"/>
            <a:ext cx="2132280" cy="2112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485040" y="39178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5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1984320" y="601992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This “bomb” diagram, howev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is </a:t>
            </a:r>
            <a:r>
              <a:rPr b="0" lang="en-HK" sz="1800" spc="-1" strike="noStrike" u="sng">
                <a:solidFill>
                  <a:srgbClr val="f80e35"/>
                </a:solidFill>
                <a:uFillTx/>
                <a:latin typeface="Arial"/>
              </a:rPr>
              <a:t>not</a:t>
            </a: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 detected inside the cactus pictu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cd3333"/>
                </a:solidFill>
                <a:latin typeface="Comic Sans MS"/>
              </a:rPr>
              <a:t>Bluepipe: On the Spot Digital Forensics</a:t>
            </a:r>
            <a:endParaRPr b="0" lang="en-US" sz="32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2343240"/>
            <a:ext cx="8076960" cy="25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Legal Issu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Investigative needs vs. the right to priv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Search warrant laws, e.g., Fourth Amendment to the U.S. Constitu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iretap law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Chain of custod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Admissibility of evidence in court: Dauber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Has theory or technique in question been tested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Is error rate known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Widespread acceptance within a relevant scientific community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atriot Ac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ly expands governmental powers in terms of searching, wiretap w/o prior 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The Other Side:  Privacy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53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We’ve concentrated on the cool technology, but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The existence of sophisticated digital forensics techniques is a great enabler for fascism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ctively fight laws that don’t appropriately balance privacy with need for investig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Secure file deletion soft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Overwriting files with zeros is good enough unless a tunneling electron microscope is available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Volatile computing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Physical destruction of media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Grind the media into pow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Vats of acid or molten st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Resourc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Evidence and Computer Crime (E. Casey, Academic Pres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Forensics and Privacy (M. Caloyannides, Artech House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Websites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frw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ts of references related to digital forensics, including a link to an interesting e-journal…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ijde.org/ (International Journal of Digital Evidence)</a:t>
            </a:r>
            <a:r>
              <a:rPr b="0" lang="en-US" sz="1600" spc="-1" strike="noStrike">
                <a:solidFill>
                  <a:srgbClr val="615a0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ip.poly.edu/kulesh/forensics/list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ns of stuff, including a bunch of online papers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ucofs.com/tucofs/tucofs.asp?mode=main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ge collection of forensics-related software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Commercial digital forensics software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K (Forensics Tool Ki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ook (law enforcement onl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H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Examples of Digital Evidence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Computers increasingly involved in criminal and corporate investigation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Digital evidence may play a supporting role or be the “smoking gun”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Email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arassment or 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Black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Illegal transmission of internal corporat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Meeting points/times for drug deal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Suicide letter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Technical data for bomb making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Image or digital video files (esp., child pornography)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Evidence of inappropriate use of computer resources or attack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Use of a machine as a spam email 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Use of a machine to distribute illegally copi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Presentation available: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14040" y="3738600"/>
            <a:ext cx="7924680" cy="28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000099"/>
                </a:solidFill>
                <a:latin typeface="Arial"/>
              </a:rPr>
              <a:t>http://www.cs.uno.edu/~golden/teac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HK" sz="3200" spc="-1" strike="noStrike">
                <a:solidFill>
                  <a:srgbClr val="000099"/>
                </a:solidFill>
                <a:latin typeface="Arial"/>
              </a:rPr>
              <a:t>golden@cs.uno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fd2703"/>
                </a:solidFill>
                <a:latin typeface="Arial"/>
              </a:rPr>
              <a:t>Office: Math 3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04920"/>
            <a:ext cx="2590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Major Issu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1892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Identification of potential digital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might the evidence be?   Which devices did the suspect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Preservation of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crime scen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stabilize evidence…prevent loss and cont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ossible, make identical copies of evidence for ex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Careful extraction and examination of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resentation 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T was fubared, but using a hex editor I changed the first byte of directory entry 13 from 0xEF to 0x08 to restore ‘HITLIST.DOC’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spect attempted to hide the Microsoft Word document ‘HITLIST.DOC’ but I was able to recover it without tampering with the file content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Legal: Investigatory needs meet priv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000" spc="-1" strike="noStrike">
                <a:solidFill>
                  <a:srgbClr val="cd3333"/>
                </a:solidFill>
                <a:latin typeface="Comic Sans MS"/>
              </a:rPr>
              <a:t>Preservation of Evidence: Hardly trivial…</a:t>
            </a:r>
            <a:endParaRPr b="0" lang="en-US" sz="3000" spc="-1" strike="noStrike">
              <a:solidFill>
                <a:srgbClr val="cd3333"/>
              </a:solidFill>
              <a:latin typeface="Comic Sans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69920" y="1981080"/>
            <a:ext cx="1158840" cy="3124440"/>
            <a:chOff x="1069920" y="1981080"/>
            <a:chExt cx="1158840" cy="31244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295280" y="1981080"/>
              <a:ext cx="83520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1069920" y="3886200"/>
              <a:ext cx="1158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flipV="1">
              <a:off x="1676520" y="3351240"/>
              <a:ext cx="1440" cy="53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428640" y="614376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Living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809880" y="4952880"/>
            <a:ext cx="5032800" cy="1516680"/>
            <a:chOff x="3809880" y="4952880"/>
            <a:chExt cx="5032800" cy="1516680"/>
          </a:xfrm>
        </p:grpSpPr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3809880" y="5181480"/>
              <a:ext cx="137160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7086600" y="5181480"/>
              <a:ext cx="144792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79880" y="6070680"/>
              <a:ext cx="206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2000" spc="-1" strike="noStrike">
                  <a:solidFill>
                    <a:srgbClr val="000000"/>
                  </a:solidFill>
                  <a:latin typeface="Arial"/>
                </a:rPr>
                <a:t>Basement/clos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29200" y="5486400"/>
              <a:ext cx="205740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03840" y="4952880"/>
              <a:ext cx="21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fd2703"/>
                  </a:solidFill>
                  <a:latin typeface="Arial"/>
                </a:rPr>
                <a:t>wireless conn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29200" y="5638680"/>
              <a:ext cx="2057400" cy="1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9880" y="1752480"/>
            <a:ext cx="4786560" cy="1990800"/>
            <a:chOff x="3809880" y="1752480"/>
            <a:chExt cx="4786560" cy="1990800"/>
          </a:xfrm>
        </p:grpSpPr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8048520" y="1752480"/>
              <a:ext cx="5479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6029280" y="1895400"/>
              <a:ext cx="165744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809880" y="1828800"/>
              <a:ext cx="1981440" cy="1447920"/>
            </a:xfrm>
            <a:prstGeom prst="borderCallout2">
              <a:avLst>
                <a:gd name="adj1" fmla="val 18750"/>
                <a:gd name="adj2" fmla="val -8333"/>
                <a:gd name="adj3" fmla="val 7893"/>
                <a:gd name="adj4" fmla="val 126282"/>
                <a:gd name="adj5" fmla="val 37500"/>
                <a:gd name="adj6" fmla="val 14951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Dear Susan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It’s not your fault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91520" y="2362320"/>
              <a:ext cx="685800" cy="1440"/>
            </a:xfrm>
            <a:prstGeom prst="line">
              <a:avLst/>
            </a:prstGeom>
            <a:ln w="38160">
              <a:solidFill>
                <a:srgbClr val="fd27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7743960" y="3057480"/>
              <a:ext cx="60012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7315200" y="2819520"/>
            <a:ext cx="60948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cubicBezTo>
                  <a:pt x="376" y="152"/>
                  <a:pt x="368" y="112"/>
                  <a:pt x="336" y="96"/>
                </a:cubicBezTo>
                <a:cubicBezTo>
                  <a:pt x="304" y="80"/>
                  <a:pt x="216" y="112"/>
                  <a:pt x="192" y="96"/>
                </a:cubicBezTo>
                <a:cubicBezTo>
                  <a:pt x="168" y="80"/>
                  <a:pt x="224" y="0"/>
                  <a:pt x="192" y="0"/>
                </a:cubicBezTo>
                <a:cubicBezTo>
                  <a:pt x="160" y="0"/>
                  <a:pt x="80" y="48"/>
                  <a:pt x="0" y="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3505320"/>
            <a:ext cx="5161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Just pull the plug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Move the mouse for a quick p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                               </a:t>
            </a:r>
            <a:r>
              <a:rPr b="1" lang="en-HK" sz="2400" spc="-1" strike="noStrike">
                <a:solidFill>
                  <a:srgbClr val="0066ff"/>
                </a:solidFill>
                <a:latin typeface="Arial"/>
              </a:rPr>
              <a:t>Trip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1676520"/>
            <a:ext cx="170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ck…tick…tick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95480" y="5200560"/>
            <a:ext cx="2057400" cy="137160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19080">
            <a:solidFill>
              <a:srgbClr val="fd27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00000"/>
                </a:solidFill>
                <a:latin typeface="Arial"/>
              </a:rPr>
              <a:t>Volati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00000"/>
                </a:solidFill>
                <a:latin typeface="Arial"/>
              </a:rPr>
              <a:t>compu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600200"/>
            <a:ext cx="2146320" cy="3733920"/>
          </a:xfrm>
          <a:custGeom>
            <a:avLst/>
            <a:gdLst/>
            <a:ahLst/>
            <a:rect l="l" t="t" r="r" b="b"/>
            <a:pathLst>
              <a:path w="1352" h="2352">
                <a:moveTo>
                  <a:pt x="0" y="2352"/>
                </a:moveTo>
                <a:cubicBezTo>
                  <a:pt x="524" y="2280"/>
                  <a:pt x="1048" y="2208"/>
                  <a:pt x="1200" y="2064"/>
                </a:cubicBezTo>
                <a:cubicBezTo>
                  <a:pt x="1352" y="1920"/>
                  <a:pt x="920" y="1688"/>
                  <a:pt x="912" y="1488"/>
                </a:cubicBezTo>
                <a:cubicBezTo>
                  <a:pt x="904" y="1288"/>
                  <a:pt x="1104" y="1112"/>
                  <a:pt x="1152" y="864"/>
                </a:cubicBezTo>
                <a:cubicBezTo>
                  <a:pt x="1200" y="616"/>
                  <a:pt x="1200" y="308"/>
                  <a:pt x="1200" y="0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4267080"/>
            <a:ext cx="6019560" cy="482760"/>
          </a:xfrm>
          <a:custGeom>
            <a:avLst/>
            <a:gdLst/>
            <a:ahLst/>
            <a:rect l="l" t="t" r="r" b="b"/>
            <a:pathLst>
              <a:path w="3792" h="304">
                <a:moveTo>
                  <a:pt x="0" y="288"/>
                </a:moveTo>
                <a:cubicBezTo>
                  <a:pt x="184" y="264"/>
                  <a:pt x="368" y="240"/>
                  <a:pt x="528" y="240"/>
                </a:cubicBezTo>
                <a:cubicBezTo>
                  <a:pt x="688" y="240"/>
                  <a:pt x="800" y="304"/>
                  <a:pt x="960" y="288"/>
                </a:cubicBezTo>
                <a:cubicBezTo>
                  <a:pt x="1120" y="272"/>
                  <a:pt x="1248" y="168"/>
                  <a:pt x="1488" y="144"/>
                </a:cubicBezTo>
                <a:cubicBezTo>
                  <a:pt x="1728" y="120"/>
                  <a:pt x="2112" y="168"/>
                  <a:pt x="2400" y="144"/>
                </a:cubicBezTo>
                <a:cubicBezTo>
                  <a:pt x="2688" y="120"/>
                  <a:pt x="2984" y="0"/>
                  <a:pt x="3216" y="0"/>
                </a:cubicBezTo>
                <a:cubicBezTo>
                  <a:pt x="3448" y="0"/>
                  <a:pt x="3620" y="72"/>
                  <a:pt x="3792" y="144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4724280"/>
            <a:ext cx="622080" cy="1905120"/>
          </a:xfrm>
          <a:custGeom>
            <a:avLst/>
            <a:gdLst/>
            <a:ahLst/>
            <a:rect l="l" t="t" r="r" b="b"/>
            <a:pathLst>
              <a:path w="392" h="1200">
                <a:moveTo>
                  <a:pt x="0" y="0"/>
                </a:moveTo>
                <a:cubicBezTo>
                  <a:pt x="88" y="60"/>
                  <a:pt x="176" y="120"/>
                  <a:pt x="240" y="240"/>
                </a:cubicBezTo>
                <a:cubicBezTo>
                  <a:pt x="304" y="360"/>
                  <a:pt x="392" y="592"/>
                  <a:pt x="384" y="720"/>
                </a:cubicBezTo>
                <a:cubicBezTo>
                  <a:pt x="376" y="848"/>
                  <a:pt x="216" y="928"/>
                  <a:pt x="192" y="1008"/>
                </a:cubicBezTo>
                <a:cubicBezTo>
                  <a:pt x="168" y="1088"/>
                  <a:pt x="204" y="1144"/>
                  <a:pt x="240" y="1200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Preservation: Imaging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5181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hen making copies of media to be investigated,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prevent accidental modification or destruction of evidence!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d2703"/>
                </a:solidFill>
                <a:latin typeface="Arial"/>
              </a:rPr>
              <a:t>Write blockers:  Use them.  Always.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d under Linux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OS boot floppi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roprietary imaging solution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477120" y="1905120"/>
            <a:ext cx="1942920" cy="3875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632640" y="579132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ivel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blo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105520" y="2589120"/>
            <a:ext cx="1523880" cy="1069920"/>
          </a:xfrm>
          <a:prstGeom prst="line">
            <a:avLst/>
          </a:prstGeom>
          <a:ln w="19080">
            <a:solidFill>
              <a:srgbClr val="fd27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Extraction and Examination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Know where evidence can be found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Understand techniques used to hide or “destroy” digital data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oolbox of techniques to discover hidden data and recover “destroyed” data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Cope with HUGE quantities of digital data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Ignore the irrelevant and target the relevant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Where’s the evidence?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Undeleted files, expect some names to be incorrect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Deleted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Windows registry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Print spool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Hibernation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Temp files (all those .TMP files!)</a:t>
            </a: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Slack space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Swap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Browser cach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Alternate partition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On a variety of removable media (floppies, ZIP, Jazz, tapes, …)</a:t>
            </a: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 vs. Fact in Digital Forensics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Many digital forensics tools and techniques are quite complex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Very difficult to cover in a short lecture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o illustrate investigative procedures for digital forensics, a fact vs. fallacy approach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fd2703"/>
                </a:solidFill>
                <a:latin typeface="Arial"/>
              </a:rPr>
              <a:t>Fallacy:</a:t>
            </a: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  User attempting to hide evidence believes one thing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9a914"/>
                </a:solidFill>
                <a:latin typeface="Arial"/>
              </a:rPr>
              <a:t>Fact:</a:t>
            </a: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  But in fact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Look at a few fact vs. fallacy scenarios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hen, one more advanced topic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olden G. Richard III, Ph.D.</dc:creator>
  <dc:description/>
  <dc:language>en-US</dc:language>
  <cp:lastModifiedBy>Golden G. Richard III</cp:lastModifiedBy>
  <cp:revision>0</cp:revision>
  <dc:subject/>
  <dc:title>Computer Security Fall 2002</dc:title>
</cp:coreProperties>
</file>