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B3AF1-9154-4CD7-8078-6614862B3B20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You can think of a FIX message like a lett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header fields are like the address and return address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body fields are like the the contents of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railer fields are like a seal on the envel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r defined field values are also permitted.  Though there is no standar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data at the top is the message as it would appear on the wir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^ char represent ASCII SOH cha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e values of the fields are ASCII chars, even fields defined as integer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me more complicated messages may have fields that contain binary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 that the XML message is a lot bigg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XML is not as widely used for pre-trade and trade messages due the latency and performance issues associated with parsing and transmitting XM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atency and performance are often important requirements for pre-trade and trade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ease note that I used the word “standard” here loosely, as the standard is really a series of specifications that are more like an implementation guideline which is constantly evolving, rather than a completely defined specification with no ambigu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has historically aimed at wide industry acceptance, adoption, and addition of new features rather than being 100% precisely defined specification which is tightly controlled.  User defined fields and messages are permit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so, most systems only implement a portion of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arties exchanging data can choose to extended or vary from the specifica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FIX engines from the major vendors have rich functionality, enterprise integration, enterprise level operational features, and are well suppor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stitutional invest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utual fund managers, hedge funds, corporate financial department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Fidelity, Vanguard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/deale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rokers, investment bank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Goldman Sachs, Merrill Lynch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 &amp; ECN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changes, electronic crossing networks, alternative trading system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NYSE, NASDAQ, Instine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industry utilitie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arket data providers, industry associations, clearing &amp; settlement organizations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xamples:  Reuters, Bloomberg, SWIFT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ftware &amp; services vendors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grate FIX into their products and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nancial products supported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itially it was used for equit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pport for new products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now includes support for fixed income, derivatives, and FX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tandard continues to evolve and add support for new product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worldwid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as initially used in the US, where it is now used by most fir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ernational support was added as the standard evolv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xt it gained traction in the UK &amp; Europ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it was embraced in the Asia &amp; Pacific R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X session layer communications is most common for communications between compan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iddleware and other transports or commonly use internally within companies for communications between system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5800-A8FD-4824-83B6-6BBF77EB1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70B5D-0AFB-433B-812A-B7A7DA2B2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FB8F2-E475-4DF6-88BA-F3F1AA968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B729-2BE5-439F-A689-60BC88B1C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1BCE8B-5A5F-458A-A2E9-28AB3C49C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98CD8F-089A-4537-A52A-E1F4294337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E8C32-7803-4401-ADCB-CB8751A9D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CA0BF-320B-403D-BB82-083928CE0C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8E901-D588-45C9-B014-E942CEF27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6707F-D434-42C8-96B2-E19259A2C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DA297-09FB-462E-91B6-3B10549E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7DBF-885A-4D71-B724-108AB908B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00CD1-02B4-4514-9B29-A6329D690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8E842-EEE4-4A6D-99BB-68D29D18C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F6E13A-6C9C-40E0-AA5E-B8D5F6194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B6443-3452-499A-97C7-2856E1F25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00A65-4D26-4B12-BA0B-C8C77134C5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78E6D-C769-40DB-81A6-8D2655BA3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43DAB-09A5-40BC-8903-9487F8ACC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DE6F-3E44-46D6-AB67-3237DF494F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5019E-032E-4C34-B1AF-170F22BC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8B626-1439-4200-8DE8-03129D645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6477-96AA-46B5-BEFC-E8A2CE4FB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0C2BE-6D39-4ACB-ADA2-59816085B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F1CFD-A347-4A58-BA5C-BFD239C05DDC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F32387-8482-46D9-9479-74EC4907D4C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quickfixengine.org/" TargetMode="External"/><Relationship Id="rId2" Type="http://schemas.openxmlformats.org/officeDocument/2006/relationships/hyperlink" Target="http://www.quickfixj.org/" TargetMode="External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www.fixprotocol.org/" TargetMode="External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troduction To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Financial Information eXchange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(FIX) Protoco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esented by Brian Driscol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t BarCampNYC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F4C0F2-CED2-4CD2-BE90-0A504BB7443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messa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essage sectio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ype, length, sequence number, sender/target, encoding, et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dy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ssion &amp; application dat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iler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ture, checks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B39F0-87CF-49F8-B5E5-C77699DF09B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typ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240" y="2017800"/>
            <a:ext cx="3465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artbe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st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nd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j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Re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out</a:t>
            </a:r>
            <a:br>
              <a:rPr sz="2400"/>
            </a:b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47960" y="2017800"/>
            <a:ext cx="4306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evel ms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+ msg typ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order – sing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ion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/replace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 cancel requ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de Capture Re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fi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0883-2C64-4FC3-BBAD-863CF9D88D0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essage field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r each field the specification define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 – A unique number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eld Name – Field name with no spac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ype – String, char, price, qty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cription – Definition of data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Name – XML element nam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B8C02-AA91-4C77-B49D-72BA9A1A441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User defined fields &amp; msg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fields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user defined fields have a tag number &gt;= 5000 and &lt; 9999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al use only user defined fields have a tag number &gt;= 100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r defined mess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types start with char “U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4A295-CC01-4226-B08B-CFEB15F782CF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wo message syntax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g=Value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components to each fiel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Tag&gt;=&lt;Value&gt;&lt;Delimiter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Tag&gt; is the tag number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=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Value&gt; is the value of the fiel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&lt;Delimiter&gt; is ASCII SOH charac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ML synt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ML schema defin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lication messages only, no session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g=Value msgs can contain FIXML in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B3514-F9F2-4922-8D9B-C98263A0B925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simple example scenario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"/>
          <p:cNvSpPr/>
          <p:nvPr/>
        </p:nvSpPr>
        <p:spPr>
          <a:xfrm>
            <a:off x="838080" y="2057400"/>
            <a:ext cx="72392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ney manager sends an order to a broker, and receives an execution/fill bac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" name=""/>
          <p:cNvGrpSpPr/>
          <p:nvPr/>
        </p:nvGrpSpPr>
        <p:grpSpPr>
          <a:xfrm>
            <a:off x="838080" y="3429000"/>
            <a:ext cx="2361960" cy="1600200"/>
            <a:chOff x="838080" y="3429000"/>
            <a:chExt cx="2361960" cy="1600200"/>
          </a:xfrm>
        </p:grpSpPr>
        <p:sp>
          <p:nvSpPr>
            <p:cNvPr id="139" name=""/>
            <p:cNvSpPr/>
            <p:nvPr/>
          </p:nvSpPr>
          <p:spPr>
            <a:xfrm>
              <a:off x="91404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buy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3808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26668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rot="5400000">
              <a:off x="21398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638680" y="3429000"/>
            <a:ext cx="2361960" cy="1600200"/>
            <a:chOff x="5638680" y="3429000"/>
            <a:chExt cx="2361960" cy="1600200"/>
          </a:xfrm>
        </p:grpSpPr>
        <p:sp>
          <p:nvSpPr>
            <p:cNvPr id="144" name=""/>
            <p:cNvSpPr/>
            <p:nvPr/>
          </p:nvSpPr>
          <p:spPr>
            <a:xfrm>
              <a:off x="6248160" y="3429000"/>
              <a:ext cx="1676520" cy="137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ahoma"/>
                </a:rPr>
                <a:t>sell side trading system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6171840" y="3429000"/>
              <a:ext cx="182880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638680" y="3429000"/>
              <a:ext cx="533160" cy="1523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rot="5400000">
              <a:off x="5111640" y="4029480"/>
              <a:ext cx="1600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ahoma"/>
                </a:rPr>
                <a:t>FIX engi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8" name=""/>
          <p:cNvSpPr/>
          <p:nvPr/>
        </p:nvSpPr>
        <p:spPr>
          <a:xfrm>
            <a:off x="3200400" y="4191120"/>
            <a:ext cx="243828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triangle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733920" y="3733920"/>
            <a:ext cx="1600200" cy="11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soc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a WA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914400" y="525780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 Session Layer Transport via TCP used with tag=value message syntax where the buy side initiates connection and the sell side accep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C9408-0CE8-4656-B5FF-087D777715B3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ypical simplified msg flow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connects TCP socket to predefined port on sell side FIX Engine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accepts TCP connec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a Logon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a Logon msg bac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y side sends New Order – Single ms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acknowledging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l side sends Execution Rpt containing fill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8E6B8-2065-4FD2-884B-193FA3D46B7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y 5000 IBM @ 110.7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82240" y="3124080"/>
            <a:ext cx="39229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Head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BeginString (indicates FIX 4.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9=BodyLength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5=MsgType (new ord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9=SenderCompID (AFUNDMG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argetCompID (ABROK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4=MsgSeqNum (2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Trailer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0=Checksu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5144760" y="3124080"/>
            <a:ext cx="377028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Body field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1=ClOrderID (client order id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1=HandleInst (automated exec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5=Symbol (IBM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4=Side (buy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6=Transact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8=OrderQty (5000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0=OrdType (Limi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44=Price (110.75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52=SendTim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380880" y="1981080"/>
            <a:ext cx="838224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8=FIX.4.2^9=251^35=D^49=AFUNDMGR^56=ABROKER^34=2^ 52=20030615-01:14:49^11=12345^21=1^ 55=IBM^54=1^ 60=2003061501:14:49^38=5000^40=2^44=110.75^10=127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1C985-CD68-47C2-9A3C-A02B25F1FB52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ame message in FIXM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04560" y="2017800"/>
            <a:ext cx="32367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FIXML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ingTime&gt;20030615-01:14:49&lt;/Sending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FUNDMG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en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ompID&gt;ABROKER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omp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Hea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76720" y="2017800"/>
            <a:ext cx="3124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ApplicationMessag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ClOrdID&gt;12345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ClOrdID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HandlInst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ymbol&gt;IBM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Symbol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Instrument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Side Value="1"/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3061501:14:49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TransactTime&gt;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0" name=""/>
          <p:cNvSpPr/>
          <p:nvPr/>
        </p:nvSpPr>
        <p:spPr>
          <a:xfrm>
            <a:off x="6019920" y="2057400"/>
            <a:ext cx="31240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erQty&gt;5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QtyDat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OrdType Value="2"/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Price&gt;110..75&lt;/Pric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Ord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Application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Messag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/FIX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257B2-44FE-4FD5-9904-D12BE17E160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tegrating applications w/ FIX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ite your own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time consuming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ropriate in some situ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an existing FIX Engin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existing FIX Eng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 platforms and languages suppor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e it into th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F26B5-A8EE-4343-A82D-CBEACD67F55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the FIX Protocol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is a messaging standard for the real time electronic exchange of securities transaction data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F4B-B605-425A-9538-64695524C966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pen source FIX Engin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++, Java, .Net, Python, &amp; Ruby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ndows, Linux, Solaris, Mac OS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quickfixengine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QuickFIX/J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a 100% Java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quickfixj.or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3DD14-62B3-4516-9991-B358B59FE7BC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engine vendo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any FIX engine vendors (20+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of the major vendors are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actTools (owned by NYS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YFIX *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eronFIX (owned by Orc softwar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* I am affiliated with NYF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24E6-BFA3-4ED1-9CF2-A82A5F5162D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IX Info on the Web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fixprotocol.org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 - The web site for FIX Protocol Ltd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ussion foru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ch of the info in this presentation came from this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262F-852F-4F5F-9A4A-E6C3843B065D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o uses FI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itutional investors (the buy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roker/dealers (the sell si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changes &amp; ECN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industry utilit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ftware &amp; services vendo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A5BB-9C20-4EEA-9EBF-E05E48962CB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t used for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, ECNs, &amp; brokers/ dealers to distribute market data, quotes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ey mangers use it to send orders and receive executions from broker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by exchanges &amp; ECNs to receive orders or quotes &amp; report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’s used to allocate &amp; confirm trad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are only a few example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9DC3E-6388-429F-AD3A-3B2F34A665F1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ducts &amp; regions support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nancial Products Suppor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qu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In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riva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d worldw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ericas, UK, Europe, Asia, Pacific Ri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21B3-34EE-49C5-BA67-3A756BF6DDE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How is the standard governed?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public domain standar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wned &amp; managed by FIX Protocol, Lt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’s a non-profit financial community organ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uple hundred member fi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Volunteers from member firms &amp; industry work on the specific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462A-26B8-4DF7-A248-4E4FC3DA343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brief history of FI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2 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used between Fidelity &amp; Salom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an 1995 - FIX 2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c spec relea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 1995 – FIX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w obsole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6 – FIX 4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US equity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use in 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98 – FIX 4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mental rele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144760" y="2017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0 – FIX 4.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nterna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quity market data &amp; allo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tures, options, F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1 – FIX 4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income, X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3 – FIX 4.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rms &amp; trade repor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006 – FIX 5.0 &amp; T1.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FX, improved session/transpor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26872-9683-40A3-ADA6-6CD89B3A78DB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ssion &amp; application lay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&amp; terminate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 messages in sequence w/ 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iness level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ssion &amp; application layers decoupled in FIX 5.0. Tightly coupled prior to that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99CA-FEF8-4E37-9B0B-8E6D0CF87ED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ransport independ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X session lay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/IP, X.25,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b services HTT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iddlewa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QSeries, Tibco Rv, 29 West LBM, J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ther trans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A2BF5-A1DB-4809-9687-A73E7F5D5A7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2T12:58:38Z</dcterms:created>
  <dc:creator>Brian Driscoll</dc:creator>
  <dc:description/>
  <dc:language>en-US</dc:language>
  <cp:lastModifiedBy>Brian Driscoll</cp:lastModifiedBy>
  <dcterms:modified xsi:type="dcterms:W3CDTF">2008-03-15T07:01:57Z</dcterms:modified>
  <cp:revision>30</cp:revision>
  <dc:subject/>
  <dc:title>Introduction To  The Financial Information Exchange  (FIX) Protocol</dc:title>
</cp:coreProperties>
</file>