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9191D-A90C-46CE-B66C-9582444056C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think of a FIX message like a l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der fields are like the address and return address on the envelo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 fields are like the the contents of the envelo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ailer fields are like a seal on the envelo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 defined field values are also permitted.  Though there is no stand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ata at the top is the message as it would appear on the wir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^ char represent ASCII SOH ch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e values of the fields are ASCII chars, even fields defined as integ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more complicated messages may have fields that contain binary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XML message is a lot bigg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ML is not as widely used for pre-trade and trade messages due the latency and performance issues associated with parsing and transmitting XM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ncy and performance are often important requirements for pre-trade and trade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ase note that I used the word “standard” here loosely, as the standard is really a series of specifications that are more like an implementation guideline which is constantly evolving, rather than a completely defined specification with no ambigu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historically aimed at wide industry acceptance, adoption, and addition of new features rather than being 100% precisely defined specification which is tightly controlled.  User defined fields and messages are permit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 most systems only implement a portion of the specifi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es exchanging data can choose to extended or vary from the specifi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X engines from the major vendors have rich functionality, enterprise integration, enterprise level operational features, and are well suppor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tutional investo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ual fund managers, hedge funds, corporate financial department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 Fidelity, Vanguard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ker/deal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kers, investment bank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 Goldman Sachs, Merrill Lynch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hanges &amp; EC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hanges, electronic crossing networks, alternative trading system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 NYSE, NASDAQ, Instinet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ncial industry utilit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et data providers, industry associations, clearing &amp; settlement organization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 Reuters, Bloomberg, SWIFT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ware &amp; services vendo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e FIX into their products and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ncial products support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ly it was used for equ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 for new products was added as the standard evol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now includes support for fixed income, derivatives, and F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ndard continues to evolve and add support for new produ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worldwi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as initially used in the US, where it is now used by most fi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tional support was added as the standard evol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it gained traction in the UK &amp; Euro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it was embraced in the Asia &amp; Pacific R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X session layer communications is most common for communications between compan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dleware and other transports or commonly use internally within companies for communications between sys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A207-BDA3-4859-B6A3-A9F74FB85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DFA9-D24A-4A98-8900-41DE64C6C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A7D2-3656-4FB4-822F-28930ABBA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D1A4-8CB8-4B0F-875A-3F7F56A6E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BE677-AEDC-4298-AB20-2864030A0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2BA73-4593-41F8-8DAC-3C47EA1CF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7A965-3E3F-43A1-8078-96ED7D8A7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ED551-55FB-4A27-A2CF-0B3CC0029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27EC8-6B42-45CE-A8C8-E16405F79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0BAFE-21E8-4A1F-9FB2-CF1E893F5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2F392-613D-43C8-8FB7-5D71811A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6EA4-308B-4888-B3B3-8BCA43AB0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804B2-0459-456D-85F3-D652386EE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24E7B-81E5-44C8-ADDF-7F431264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99395-7566-44E0-9EB6-598151339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9A59B-C3EE-4443-BC5E-FC1EC234C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80DA7-B65C-4644-9F10-ADBF3A5A6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6FDF-848C-497B-9CA2-74F920A48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0442-E7CB-4226-B0F7-B6FE2F83E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DCED-8610-4C4A-A5FD-337F61082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A2AE-7E02-4A64-9A81-A39630566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89F1-6D09-4208-97C9-EAE9377D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8427-A897-4273-B5AF-DC74E58B0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9C71-2C0F-423D-8A44-DFC9DBC54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D5ACE-2A84-4354-8A43-AEBB78399D6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A37AF-D9EB-4132-A11B-E48C2AC5D47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quickfixengine.org/" TargetMode="External"/><Relationship Id="rId2" Type="http://schemas.openxmlformats.org/officeDocument/2006/relationships/hyperlink" Target="http://www.quickfixj.org/" TargetMode="Externa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fixprotocol.org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tion To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Financial Information eXchange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(FIX) Protoc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sented by Brian Drisco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 BarCampNYC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A84C9-F549-4A88-8197-0BCB612B296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X mess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ssage se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ype, length, sequence number, sender/target, encoding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dy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ssion &amp; application dat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il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ture, checks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45F3-A8D6-4FAB-9B4D-A2E34DF8592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ssage typ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46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level ms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rtbe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Requ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nd Requ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j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Re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out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47960" y="2017800"/>
            <a:ext cx="4306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evel ms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+ msg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order – sing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ion re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 cancel/replace requ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 cancel requ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de Capture Re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fi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1857-BEB1-45B7-9BF1-9938EE3E570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ssage fiel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ach field the specification defin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 – A unique numb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eld Name – Field name with no spac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 – String, char, price, qty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ption – Definition of dat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ML Name – XML element nam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E641-84B7-4C20-8329-598A09866C0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ser defined fields &amp; ms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r defined field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user defined fields have a tag number &gt;= 5000 and &lt; 9999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use only user defined fields have a tag number &gt;= 10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r defined mess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types start with char “U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1090-C964-4E60-980A-94935A80C4E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wo message syntax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=Value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components to each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Tag&gt;=&lt;Value&gt;&lt;Delimiter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Tag&gt; is the tag number of th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Value&gt; is the value of th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Delimiter&gt; is ASCII SOH charac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ML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ML schema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messages only, no session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g=Value msgs can contain FIXML in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4A28-F1FE-4414-B1C6-FFC7F765A85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simple example scenari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838080" y="2057400"/>
            <a:ext cx="7239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ney manager sends an order to a broker, and receives an execution/fill ba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838080" y="3429000"/>
            <a:ext cx="2361960" cy="1600200"/>
            <a:chOff x="838080" y="3429000"/>
            <a:chExt cx="2361960" cy="1600200"/>
          </a:xfrm>
        </p:grpSpPr>
        <p:sp>
          <p:nvSpPr>
            <p:cNvPr id="139" name=""/>
            <p:cNvSpPr/>
            <p:nvPr/>
          </p:nvSpPr>
          <p:spPr>
            <a:xfrm>
              <a:off x="914040" y="3429000"/>
              <a:ext cx="16765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buy side trading syst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8080" y="3429000"/>
              <a:ext cx="182880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666880" y="3429000"/>
              <a:ext cx="53316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5400000">
              <a:off x="2139840" y="402948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X eng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5638680" y="3429000"/>
            <a:ext cx="2361960" cy="1600200"/>
            <a:chOff x="5638680" y="3429000"/>
            <a:chExt cx="2361960" cy="1600200"/>
          </a:xfrm>
        </p:grpSpPr>
        <p:sp>
          <p:nvSpPr>
            <p:cNvPr id="144" name=""/>
            <p:cNvSpPr/>
            <p:nvPr/>
          </p:nvSpPr>
          <p:spPr>
            <a:xfrm>
              <a:off x="6248160" y="3429000"/>
              <a:ext cx="16765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sell side trading syst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171840" y="3429000"/>
              <a:ext cx="182880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38680" y="3429000"/>
              <a:ext cx="53316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5400000">
              <a:off x="5111640" y="402948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X eng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3200400" y="41911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733920" y="3733920"/>
            <a:ext cx="16002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so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a W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14400" y="525780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 Session Layer Transport via TCP used with tag=value message syntax where the buy side initiates connection and the sell side acce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B709-1007-4B6B-AEF8-4B3DE83C780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ypical simplified msg flo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y side connects TCP socket to predefined port on sell side FIX Eng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l side accepts TCP connec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y side sends a Logon ms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l side sends a Logon msg bac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y side sends New Order – Single ms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l side sends Execution Rpt acknowledging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l side sends Execution Rpt containing fil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DFD5-D04B-40B6-B000-D7C6B351197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y 5000 IBM @ 110.7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240" y="3124080"/>
            <a:ext cx="39229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Header fiel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=BeginString (indicates FIX 4.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9=BodyLengt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5=MsgType (new ord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9=SenderCompID (AFUNDMG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6=TargetCompID (ABROK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4=MsgSeqNum (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2=SendTi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ailer Fiel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0=Checksu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44760" y="3124080"/>
            <a:ext cx="37702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ody fiel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1=ClOrderID (client order i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1=HandleInst (automated exe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5=Symbol (IBM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4=Side (buy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6=TransactTi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8=OrderQty (5000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0=OrdType (Limi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4=Price (110.75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2=SendTi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1981080"/>
            <a:ext cx="83822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=FIX.4.2^9=251^35=D^49=AFUNDMGR^56=ABROKER^34=2^ 52=20030615-01:14:49^11=12345^21=1^ 55=IBM^54=1^ 60=2003061501:14:49^38=5000^40=2^44=110.75^10=127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2531-99A6-4FDE-827C-AC1B5AA9C9C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ame message in FIX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560" y="2017800"/>
            <a:ext cx="323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FIXML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FIXMLMessage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SendingTime&gt;20030615-01:14:49&lt;/SendingTime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Sender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CompID&gt;AFUNDMG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CompID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Sender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Target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CompID&gt;ABROKER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CompID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Target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Header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76720" y="201780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ApplicationMessage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Order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ClOrdID&gt;1234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ClOrdID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HandlInst Value="1"/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Instrument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Symbol&gt;IB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Symbol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Instrument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Side Value="1"/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TransactTime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3061501:14:4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TransactTime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6019920" y="2057400"/>
            <a:ext cx="3124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OrderQtyDat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OrderQty&gt;5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OrderQ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OrderQtyDat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OrdType Value="2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Price&gt;110..75&lt;/Pric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Ord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ApplicationMessag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FIXMLMessag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FIX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6668-9F85-471B-A7A3-94A68A659E2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tegrating applications w/ FIX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ite your own FIX Eng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time consuming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ropriate in some situ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an existing FIX Eng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existing FIX Eng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platforms and languages suppor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e it into th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6D96-9CD7-4913-A8A3-B003466F3DC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the FIX Protocol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a messaging standard for the real time electronic exchange of securities transaction dat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2542-9311-49EC-A1BD-4B85AF494F9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en source FIX Engi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ickFI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++, Java, .Net, Python, &amp; Ruby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ndows, Linux, Solaris, Mac OS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quickfixengine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ickFIX/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a 100% Java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quickfixj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0487-6307-499B-84E9-B09E7CF016A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X engine vendo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FIX engine vendors (20+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of the major vendors ar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Tools (owned by NYS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YFIX 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eronFIX (owned by Orc softwa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* I am affiliated with NYF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35DA-5FD1-4017-9119-EADD149FFA0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X Info on the We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fixprotocol.org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 - The web site for FIX Protocol Lt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ussion foru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ch of the info in this presentation came from this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CAAF-31CA-4952-93EB-4B119447D79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o uses FI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itutional investors (the buy si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oker/dealers (the sell si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changes &amp; EC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ancial industry ut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&amp; services vend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D1E9-054A-49E3-B528-9328BC050A5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t used for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’s used by exchanges, ECNs, &amp; brokers/ dealers to distribute market data, quotes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ey mangers use it to send orders and receive executions from broke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’s used by exchanges &amp; ECNs to receive orders or quotes &amp; report trad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’s used to allocate &amp; confirm trad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are only a few examp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E630-DE7C-47CD-B8F9-ABBCE0E8EF0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ducts &amp; regions support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ancial Products Suppor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In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a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d worldw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ericas, UK, Europe, Asia, Pacific Ri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03F1-5079-4CDA-BE78-C1E18CC46CE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How is the standard governed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’s a public domain standa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wned &amp; managed by FIX Protocol, Lt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’s a non-profit financial community organ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uple hundred member fi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lunteers from member firms &amp; industry work on the spec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6FBE-1B04-4230-AB1F-261096BCE5B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brief history of FI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92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used between Fidelity &amp; Salom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n 1995 - FIX 2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c spec relea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w obsole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 1995 – FIX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w obsole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96 – FIX 4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US equity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use in 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98 – FIX 4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mental rele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00 – FIX 4.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nterna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quity market data &amp; allo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tures, options, F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01 – FIX 4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income, X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03 – FIX 4.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rms &amp; trade repor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06 – FIX 5.0 &amp; T1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FX, improved session/transpor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F6A9-C3AB-45DB-8F62-5DFB2BC179B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ssion &amp; application lay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ssion lay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&amp; terminate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messages in sequence w/ 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iness leve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ssion &amp; application layers decoupled in FIX 5.0. Tightly coupled prior to tha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B5B3-1D77-4783-AA9B-4EC0D940F2F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ansport independ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X session lay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, X.25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b services HTT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ddle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QSeries, Tibco Rv, 29 West LBM, J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trans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63DD-A6D6-45C3-9D11-98763897982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2:58:38Z</dcterms:created>
  <dc:creator>Brian Driscoll</dc:creator>
  <dc:description/>
  <dc:language>en-US</dc:language>
  <cp:lastModifiedBy>Brian Driscoll</cp:lastModifiedBy>
  <dcterms:modified xsi:type="dcterms:W3CDTF">2008-03-15T07:01:57Z</dcterms:modified>
  <cp:revision>30</cp:revision>
  <dc:subject/>
  <dc:title>Introduction To  The Financial Information Exchange  (FIX) Protocol</dc:title>
</cp:coreProperties>
</file>