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D603-D878-4FA5-8905-8E70861BD7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hink of a FIX message like a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er fields are like the address and return address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fields are like the the contents of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iler fields are like a seal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defined field values are also permitted.  Though there is no stand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at the top is the message as it would appear on the wi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^ char represent ASCII SOH ch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values of the fields are ASCII chars, even fields defined as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complicated messages may have fields that contain binary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XML message is a lot big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is not as widely used for pre-trade and trade messages due the latency and performance issues associated with parsing and transmitting XM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and performance are often important requirements for pre-trade and trade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note that I used the word “standard” here loosely, as the standard is really a series of specifications that are more like an implementation guideline which is constantly evolving, rather than a completely defined specification with no ambigu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historically aimed at wide industry acceptance, adoption, and addition of new features rather than being 100% precisely defined specification which is tightly controlled.  User defined fields and messages are per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ost systems only implement a portion of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es exchanging data can choose to extended or vary from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X engines from the major vendors have rich functionality, enterprise integration, enterprise level operational features, and are well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inves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fund managers, hedge funds, corporate financial depart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Fidelity, Vanguar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/deal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s, investment ban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Goldman Sachs, Merrill Lynch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 &amp; EC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, electronic crossing networks, alternative trading syste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NYSE, NASDAQ, Instine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industry uti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data providers, industry associations, clearing &amp; settlement organization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Reuters, Bloomberg, SWIF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&amp; services vend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FIX into their product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oducts suppor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it was used for equ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new products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now includes support for fixed income, derivatives, and 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continues to evolve and add support for new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orldw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initially used in the US, where it is now used by most fi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support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gained traction in the UK &amp;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was embraced in the Asia &amp; Pacific R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 session layer communications is most common for communications between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ware and other transports or commonly use internally within companies for communications between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682-ECF5-4F8A-938F-987BCB43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352-A9E6-480D-B8BA-74CA40EF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536-F4D1-4511-ACC2-AC9C5F43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FBC-98BC-48F8-9DE5-EB310FEF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6978-5D75-4E2A-A911-DEDB3BB0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AB4E-E64C-48FC-A315-3CB7E8F0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0BC4-D301-48EB-9EEA-244D8548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214D-D3D6-408F-9FDC-EA0C1DBA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8DF1-3B96-4913-899A-B11C7B0C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1DA1-805C-4C64-A407-9ADE68AD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F353-7B51-4C0C-9823-BD4018FA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DE3-6218-479E-9C49-4BDFE11D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C165-5DEF-4E65-AD33-FEF1B903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C360-DEFC-4E81-994E-86055E43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7451-18AC-4E74-9003-380D30DF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6F93-3656-4A36-B2A2-EE20A200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DE0B-1358-4F89-9EF0-4B593449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FCB-9FF8-4612-86BA-FC31DA13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910-2665-438B-B266-EDB96EDD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639-BA39-4C39-8F11-FC5BF477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7CC-0264-4D3C-98C7-33EEE646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416-47BE-4EBB-8BA3-2DF761B6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D3F-726F-434D-B425-3EADC162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1B5-588A-466F-9987-FEE9F5D8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6540-0D52-4453-9A90-EAD73A4C20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040B-A429-49D1-8229-BAA4D271B2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quickfixengine.org/" TargetMode="External"/><Relationship Id="rId2" Type="http://schemas.openxmlformats.org/officeDocument/2006/relationships/hyperlink" Target="http://www.quickfixj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xprotocol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inancial Information eXchang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FIX)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by Brian Drisc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BarCampNYC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091F-0475-4730-8985-30632EC8B1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mess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s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ype, length, sequence number, sender/target, encod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&amp; application 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l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, 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71F-093D-4100-8375-B7F9E06EF3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4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nd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u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17800"/>
            <a:ext cx="43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+ msg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rder – si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/replace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 Capture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3A6-4E0B-4EB4-BB73-0FE9EFDDF2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field the specification def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 – A unique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ame – Field name with no sp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 – String, char, price, q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on – Definition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Name – XML element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D185-2D1A-40A2-9D56-1B210C72FC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defined fields &amp; ms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fiel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user defined fields have a tag number &gt;= 5000 and &lt; 9999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use only user defined fields have a tag number &gt;= 1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types start with char “U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172-F482-45DF-B261-4BBA7D068F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message synta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=Valu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components to each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ag&gt;=&lt;Value&gt;&lt;Delimite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ag&gt; is the tag number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alue&gt; is the value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limiter&gt; is ASCII SOH charac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schema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messages only, no sess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g=Value msgs can contain FIXML in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86D-A198-4C91-A732-D98291AFF7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imple example scen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0574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ney manager sends an order to a broker, and receives an execution/fill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3429000"/>
            <a:ext cx="2361960" cy="1600200"/>
            <a:chOff x="838080" y="3429000"/>
            <a:chExt cx="2361960" cy="1600200"/>
          </a:xfrm>
        </p:grpSpPr>
        <p:sp>
          <p:nvSpPr>
            <p:cNvPr id="139" name=""/>
            <p:cNvSpPr/>
            <p:nvPr/>
          </p:nvSpPr>
          <p:spPr>
            <a:xfrm>
              <a:off x="91404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uy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1398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638680" y="3429000"/>
            <a:ext cx="2361960" cy="1600200"/>
            <a:chOff x="5638680" y="3429000"/>
            <a:chExt cx="2361960" cy="1600200"/>
          </a:xfrm>
        </p:grpSpPr>
        <p:sp>
          <p:nvSpPr>
            <p:cNvPr id="144" name=""/>
            <p:cNvSpPr/>
            <p:nvPr/>
          </p:nvSpPr>
          <p:spPr>
            <a:xfrm>
              <a:off x="624816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ell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1116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0040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7339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a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257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 Session Layer Transport via TCP used with tag=value message syntax where the buy side initiates connection and the sell side ac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89D-7CEB-4D57-B146-4C39C828E6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simplified msg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connects TCP socket to predefined port on sell side FIX Eng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accepts TCP conn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a Logon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a Logon msg 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New Order – Single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acknowledg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containing f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0A2-667A-4D70-A698-2ACA5CB31E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y 5000 IBM @ 110.7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3124080"/>
            <a:ext cx="392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ad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BeginString (indicates FIX 4.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=Body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5=MsgType (new ord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9=SenderCompID (AFUNDMG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argetCompID (ABROK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=MsgSeqNum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il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=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3124080"/>
            <a:ext cx="3770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dy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=ClOrderID (client order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=HandleInst (automated exe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5=Symbol (IB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4=Side (bu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ransact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8=OrderQty (5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=OrdType (Lim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4=Price (110.7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FIX.4.2^9=251^35=D^49=AFUNDMGR^56=ABROKER^34=2^ 52=20030615-01:14:49^11=12345^21=1^ 55=IBM^54=1^ 60=2003061501:14:49^38=5000^40=2^44=110.75^10=12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2C7-97C8-47B7-A364-62678548A3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e message in FIX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323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ingTime&gt;20030615-01:14:49&lt;/Sending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FUNDMG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BROKER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76720" y="2017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pplication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lOrdID&gt;123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lOrd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andlInst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ymbol&gt;IB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ymbo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ide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3061501:14: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&gt;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Type Value="2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rice&gt;110..75&lt;/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Application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52A-FEE8-47E0-B9E3-F88E6014EE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egrating applications w/ FI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own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time consum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priate in some sit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 existing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existing FIX Eng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platforms and languages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it into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349-1E2B-43F7-ABE6-99F7739897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FIX Protoco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messaging standard for the real time electronic exchange of securities transaction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CE3-6466-406D-9DA3-3A10B5FB20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source FIX Eng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++, Java, .Net, Python, &amp; Ruby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, Linux, Solaris, Mac OS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quickfixengi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/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100% Java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quickfixj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868-4F15-4EBA-9D20-A43886D28A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engine vend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X engine vendors (20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f the major vendor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Tools (owned by NY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YFIX 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onFIX (owned by Orc soft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I am affiliated with NYF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928-3BE2-4FE0-8F85-18F406DCB9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Info on the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fixprotocol.o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- The web site for FIX Protocol L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 for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of the info in this presentation came from this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C08-4440-4EDF-AE3B-654366C94A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uses FI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itutional investors (the buy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/dealers (the sell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hanges &amp; EC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industry ut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&amp; services vend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B97-828B-4511-BA07-C352B53F00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 used f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, ECNs, &amp; brokers/ dealers to distribute market data, quo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ey mangers use it to send orders and receive executions from bro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 &amp; ECNs to receive orders or quotes &amp; report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to allocate &amp; confirm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only a few examp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0F2-C607-4980-B37C-82C4624F6D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ducts &amp; regions suppo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Products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In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s, UK, Europe, Asia, Pacific R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DC9-7F01-476D-94F4-6B09637C38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is the standard govern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public domai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d &amp; managed by FIX Protocol, Lt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non-profit financial community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ple hundred member fi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nteers from member firms &amp; industry work on the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023-C3A8-45BB-9F48-9C8C3DCDBF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brief history of F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2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d between Fidelity &amp; Salo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 1995 - FIX 2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spec relea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 1995 – FIX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6 – FIX 4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US equit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use in 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8 – FIX 4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al rel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 – FIX 4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nterna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ty market data &amp; al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tures, options, F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 – FIX 4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income,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3 – FIX 4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s &amp; trade 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6 – FIX 5.0 &amp; T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FX, improved session/transpor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43E-1958-4EE6-A456-D060AD4919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&amp; application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&amp; terminate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messages in sequence w/ 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leve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&amp; application layers decoupled in FIX 5.0. Tightly coupled prior to t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858-823A-4169-90D6-9FFD65F399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ort independ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, X.25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ices HT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QSeries, Tibco Rv, 29 West LBM, J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rans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510D-8247-4EA7-8744-F955CBDDB2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58:38Z</dcterms:created>
  <dc:creator>Brian Driscoll</dc:creator>
  <dc:description/>
  <dc:language>en-US</dc:language>
  <cp:lastModifiedBy>Brian Driscoll</cp:lastModifiedBy>
  <dcterms:modified xsi:type="dcterms:W3CDTF">2008-03-15T07:01:57Z</dcterms:modified>
  <cp:revision>30</cp:revision>
  <dc:subject/>
  <dc:title>Introduction To  The Financial Information Exchange  (FIX) Protocol</dc:title>
</cp:coreProperties>
</file>