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66984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349680" y="13712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9036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66984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349680" y="3839040"/>
            <a:ext cx="2551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90360" y="609120"/>
            <a:ext cx="792468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51160" y="38390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51160" y="1371240"/>
            <a:ext cx="386712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90360" y="3839040"/>
            <a:ext cx="7924680" cy="225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238960" y="152280"/>
            <a:ext cx="99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41E01A-055D-4CE4-AD5D-2838BE977F4E}" type="slidenum">
              <a:rPr b="0" lang="en-US" sz="1400" spc="-1" strike="noStrike">
                <a:solidFill>
                  <a:srgbClr val="009999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990720" y="617220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4" name="">
            <a:hlinkClick r:id="" action="ppaction://hlinkshowjump?jump=firstslide"/>
          </p:cNvPr>
          <p:cNvSpPr/>
          <p:nvPr/>
        </p:nvSpPr>
        <p:spPr>
          <a:xfrm>
            <a:off x="7004160" y="6499080"/>
            <a:ext cx="1530360" cy="4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9999"/>
                </a:solidFill>
                <a:latin typeface="Arial"/>
              </a:rPr>
              <a:t>Jump to first page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5" name="">
            <a:hlinkClick r:id="" action="ppaction://hlinkshowjump?jump=previousslide"/>
          </p:cNvPr>
          <p:cNvSpPr/>
          <p:nvPr/>
        </p:nvSpPr>
        <p:spPr>
          <a:xfrm>
            <a:off x="8502480" y="6554880"/>
            <a:ext cx="193680" cy="226800"/>
          </a:xfrm>
          <a:prstGeom prst="leftArrow">
            <a:avLst>
              <a:gd name="adj1" fmla="val 50000"/>
              <a:gd name="adj2" fmla="val 6379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6" name="">
            <a:hlinkClick r:id="" action="ppaction://hlinkshowjump?jump=nextslide"/>
          </p:cNvPr>
          <p:cNvSpPr/>
          <p:nvPr/>
        </p:nvSpPr>
        <p:spPr>
          <a:xfrm>
            <a:off x="8731080" y="6556320"/>
            <a:ext cx="193680" cy="227160"/>
          </a:xfrm>
          <a:prstGeom prst="rightArrow">
            <a:avLst>
              <a:gd name="adj1" fmla="val 50000"/>
              <a:gd name="adj2" fmla="val 63806"/>
            </a:avLst>
          </a:prstGeom>
          <a:solidFill>
            <a:srgbClr val="ffffff"/>
          </a:solidFill>
          <a:ln cap="sq" w="1260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666880" y="6172200"/>
            <a:ext cx="6324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Introduction to FIX </a:t>
            </a:r>
            <a:br>
              <a:rPr sz="900"/>
            </a:br>
            <a:r>
              <a:rPr b="0" lang="en-US" sz="900" spc="-1" strike="noStrike">
                <a:solidFill>
                  <a:srgbClr val="009999"/>
                </a:solidFill>
                <a:latin typeface="Arial"/>
              </a:rPr>
              <a:t>Copyright© 2004 Jim Northey and  Jordan &amp; Jordan 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457200" y="5334120"/>
            <a:ext cx="1905120" cy="714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99"/>
              </a:solidFill>
              <a:latin typeface="Arial"/>
            </a:endParaRPr>
          </a:p>
          <a:p>
            <a:pPr lvl="4" marL="1828800" algn="ctr">
              <a:spcBef>
                <a:spcPts val="300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5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  <a:p>
            <a:pPr lvl="6" marL="1828800">
              <a:spcBef>
                <a:spcPts val="3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99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jandj.com/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fix.btobits.com/" TargetMode="External"/><Relationship Id="rId2" Type="http://schemas.openxmlformats.org/officeDocument/2006/relationships/hyperlink" Target="http://fix.btobits.com/" TargetMode="External"/><Relationship Id="rId3" Type="http://schemas.openxmlformats.org/officeDocument/2006/relationships/hyperlink" Target="http://www.btobits.com/" TargetMode="External"/><Relationship Id="rId4" Type="http://schemas.openxmlformats.org/officeDocument/2006/relationships/hyperlink" Target="http://www.btobits.com/" TargetMode="External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3124080" y="3962520"/>
            <a:ext cx="30448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Jim Northey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Jordan and Jorda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99"/>
                </a:solidFill>
                <a:latin typeface="Arial Narrow"/>
              </a:rPr>
              <a:t>Introduction to FIX</a:t>
            </a:r>
            <a:endParaRPr b="1" lang="en-US" sz="28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2209320"/>
            <a:ext cx="82296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FIX Session Laye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ssion Level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itiating a session (Logon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Heartbe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Valid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nding a session (Logout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nitiating a Session (Logon MsgType=A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uy side firm initiates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Initia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a connection to a Sell side (the </a:t>
            </a:r>
            <a:r>
              <a:rPr b="0" i="1" lang="en-US" sz="2000" spc="-1" strike="noStrike">
                <a:solidFill>
                  <a:srgbClr val="cc0000"/>
                </a:solidFill>
                <a:latin typeface="Arial"/>
              </a:rPr>
              <a:t>Acceptor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) firm using the LOGON Session Level Message MsgType[35]=“A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9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5=</a:t>
            </a:r>
            <a:r>
              <a:rPr b="1" lang="en-US" sz="16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BOFASEC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0=MSO:MSO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7=TEST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106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3=N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06:4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8=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8=3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021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minal Login Scenario Start of Da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8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497760" y="1522800"/>
            <a:ext cx="4082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3428640" y="3581280"/>
            <a:ext cx="43290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,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505320" y="3962520"/>
            <a:ext cx="2895480" cy="5331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0880" y="2670120"/>
            <a:ext cx="1752840" cy="733320"/>
          </a:xfrm>
          <a:prstGeom prst="borderCallout1">
            <a:avLst>
              <a:gd name="adj1" fmla="val 18750"/>
              <a:gd name="adj2" fmla="val -8333"/>
              <a:gd name="adj3" fmla="val 99555"/>
              <a:gd name="adj4" fmla="val 200532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809880" y="5105520"/>
            <a:ext cx="914400" cy="914400"/>
          </a:xfrm>
          <a:prstGeom prst="smileyFace">
            <a:avLst>
              <a:gd name="adj" fmla="val 9282"/>
            </a:avLst>
          </a:prstGeom>
          <a:solidFill>
            <a:srgbClr val="ffff00"/>
          </a:solidFill>
          <a:ln w="936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95680" y="4724280"/>
            <a:ext cx="2971800" cy="609840"/>
          </a:xfrm>
          <a:prstGeom prst="wedgeEllipseCallout">
            <a:avLst>
              <a:gd name="adj1" fmla="val -40171"/>
              <a:gd name="adj2" fmla="val 10781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10000"/>
                </a:solidFill>
                <a:latin typeface="Comic Sans MS"/>
              </a:rPr>
              <a:t>We have a FIX Session Established!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guarantees that messages are delivered in the order in which they are sen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 FIX Session can be defined a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“</a:t>
            </a:r>
            <a:r>
              <a:rPr b="0" i="1" lang="en-US" sz="2000" spc="-1" strike="noStrike">
                <a:solidFill>
                  <a:srgbClr val="ff3300"/>
                </a:solidFill>
                <a:latin typeface="Arial"/>
              </a:rPr>
              <a:t>a bi-directional stream of ordered messages between two parties within a continuous sequence number series”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FIX Engines is expected to keep track of two sequence number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Incoming Sequence Number expected on inbound messages received from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he Outgoing Sequence Number to be sent to the counterparty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equenc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o what happens if the sequence numbers are not in order?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messages for recovery of lost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delivery of lost messag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Provides for a way to resynchronize sequence numbers between engin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Resend Request (MsgType=2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Used to request the counterparty to resend a set of FIX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ell the counterparty the range of messages that you did not receiv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BeginSeqNo (tag 7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EndSeqNo (tag 1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High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98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3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729240" y="327528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g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505320" y="3809880"/>
            <a:ext cx="2895480" cy="5335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ncoming Sequence Number matches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his is the</a:t>
            </a: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Logon</a:t>
            </a:r>
            <a:br>
              <a:rPr sz="1400"/>
            </a:br>
            <a:r>
              <a:rPr b="0" i="1" lang="en-US" sz="1400" spc="-1" strike="noStrike">
                <a:solidFill>
                  <a:srgbClr val="cc0000"/>
                </a:solidFill>
                <a:latin typeface="Arial"/>
              </a:rPr>
              <a:t>Acknowledgem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H="1">
            <a:off x="3414240" y="4724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19360" y="4494240"/>
            <a:ext cx="42616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 Reques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2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eginSeqNo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dSeqNo= 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29000" y="5486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Dot"/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983760" y="5485320"/>
            <a:ext cx="320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Resends messages or sends a gap fil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al Login Scenario - Sequence Number to Lo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13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22240" y="152280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>
            <a:off x="3414240" y="3581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29240" y="3274920"/>
            <a:ext cx="387216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Text = Incoming Sequence Number &lt;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Expected = 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2209680"/>
            <a:ext cx="2895480" cy="83844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Valid SenderCompID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quence Number &lt; Expected Valu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290520" y="2968560"/>
            <a:ext cx="1752480" cy="733320"/>
          </a:xfrm>
          <a:prstGeom prst="borderCallout1">
            <a:avLst>
              <a:gd name="adj1" fmla="val 18750"/>
              <a:gd name="adj2" fmla="val -8333"/>
              <a:gd name="adj3" fmla="val 58828"/>
              <a:gd name="adj4" fmla="val 205685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hy do we stop the Session from being established?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7772400" y="2362320"/>
            <a:ext cx="1066680" cy="4572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1908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Incom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3300"/>
                </a:solidFill>
                <a:latin typeface="Arial"/>
              </a:rPr>
              <a:t>Expected=5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173200" y="47232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3809880" y="46483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equence Reset (MsgType=4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In order to reduce unnecessary communication, FIX permits firms to skip or gap fill over administrative messages (such as heartbeats and test requests)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is is done using the Sequence Rese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GapFillFlag (tag 123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NewSeqNo (tag 36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 (MsgType=0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FIX Session is kept alive by both sides sending heartbeats to the oth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72^</a:t>
            </a:r>
            <a:br>
              <a:rPr sz="1600"/>
            </a:br>
            <a:r>
              <a:rPr b="1" lang="en-US" sz="1600" spc="-1" strike="noStrike">
                <a:solidFill>
                  <a:srgbClr val="cc0000"/>
                </a:solidFill>
                <a:latin typeface="Arial"/>
              </a:rPr>
              <a:t>35=0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GLTRADE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3:53:28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24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ession Lay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ssion Level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i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 Sequenc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Keeping the session alive – heart beat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Logou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eartbeating lets each side know the connection is activ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30" name=""/>
          <p:cNvSpPr/>
          <p:nvPr/>
        </p:nvSpPr>
        <p:spPr>
          <a:xfrm>
            <a:off x="243828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37160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781680" y="1371600"/>
            <a:ext cx="106704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ssion Accep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401920" y="2818080"/>
            <a:ext cx="4400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424240" y="5410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506320" y="510408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EO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2423880" y="23623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738520" y="205632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660040" y="1599120"/>
            <a:ext cx="40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in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243828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2437920" y="38862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768760" y="3580200"/>
            <a:ext cx="38721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2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4271040" y="4266360"/>
            <a:ext cx="789840" cy="60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3300"/>
                </a:solidFill>
                <a:latin typeface="Arial"/>
              </a:rPr>
              <a:t>…</a:t>
            </a:r>
            <a:endParaRPr b="0" lang="en-US" sz="40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How often do we heartbeat a FIX connection?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Configurabl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Negotiated” at Logon tim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HeartBtInt (tag 108) Note same value used by both side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Test Request (MsgType=1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ither party on the FIX connection can send a Test Request message at any time during the FIX Sess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recipient of a Test Request message must respond with a Heartbea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Test Request contains a required TestReqID[112] fiel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Heartbeat response message must contain the TestReqID[112] of the Test Request 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8" name=""/>
          <p:cNvSpPr/>
          <p:nvPr/>
        </p:nvSpPr>
        <p:spPr>
          <a:xfrm>
            <a:off x="2362320" y="24382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1905120"/>
            <a:ext cx="1067040" cy="14475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981080"/>
            <a:ext cx="1066680" cy="152424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350440" y="21326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361960" y="31240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656440" y="2818440"/>
            <a:ext cx="3899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Heartbeat MsgType=0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xception Test Request Scenario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55" name=""/>
          <p:cNvSpPr/>
          <p:nvPr/>
        </p:nvSpPr>
        <p:spPr>
          <a:xfrm>
            <a:off x="2590920" y="220968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1523880" y="1676520"/>
            <a:ext cx="1067040" cy="34290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Initiator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934320" y="1676520"/>
            <a:ext cx="1066680" cy="33526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579040" y="1904040"/>
            <a:ext cx="417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est Request MsgType=1, TestReqID=“AnyString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2734920" y="4494600"/>
            <a:ext cx="247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590920" y="43434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638440" y="4037400"/>
            <a:ext cx="408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5 Text=“Test Request Timeout”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5334120" y="4419720"/>
            <a:ext cx="914400" cy="914400"/>
          </a:xfrm>
          <a:prstGeom prst="noSmoking">
            <a:avLst>
              <a:gd name="adj" fmla="val 12500"/>
            </a:avLst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590920" y="48769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029200" y="2590920"/>
            <a:ext cx="1600200" cy="121896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No Response from recipient for 2 X Heartbeat Interv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Valid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Engines validate that messages are properly formed and will reject the message using a Session Level REJECT message if the message is invali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he Checksum (tag 10) is validated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Ending a Session(Logout MsgType=5)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Each side sends a logout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8=FIX.4.2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9=0082^</a:t>
            </a:r>
            <a:br>
              <a:rPr sz="1600"/>
            </a:b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35=5</a:t>
            </a: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49=DFIX201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6=GLTRADE0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34=483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52=20010822-14:05:34^</a:t>
            </a:r>
            <a:br>
              <a:rPr sz="1600"/>
            </a:br>
            <a:r>
              <a:rPr b="0" lang="en-US" sz="1600" spc="-1" strike="noStrike">
                <a:solidFill>
                  <a:srgbClr val="003399"/>
                </a:solidFill>
                <a:latin typeface="Arial"/>
              </a:rPr>
              <a:t>10=176^</a:t>
            </a:r>
            <a:endParaRPr b="0" lang="en-US" sz="16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2666880" y="304560"/>
            <a:ext cx="601992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Normal Logout Processing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70" name=""/>
          <p:cNvSpPr/>
          <p:nvPr/>
        </p:nvSpPr>
        <p:spPr>
          <a:xfrm>
            <a:off x="3429000" y="1828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2362320" y="1295280"/>
            <a:ext cx="1066680" cy="441972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Firm Initiating Logou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7772400" y="1371600"/>
            <a:ext cx="1066680" cy="4267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Recipien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3481200" y="1522800"/>
            <a:ext cx="4112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M 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 flipH="1">
            <a:off x="3414240" y="411480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653640" y="3808800"/>
            <a:ext cx="3900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Logout MsgType=</a:t>
            </a:r>
            <a:r>
              <a:rPr b="1" lang="en-US" sz="1400" spc="-1" strike="noStrike">
                <a:solidFill>
                  <a:srgbClr val="cc0000"/>
                </a:solidFill>
                <a:latin typeface="Arial"/>
              </a:rPr>
              <a:t>5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 Target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M001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enderCompID=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CBOEFIX001 </a:t>
            </a: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sgSeqNum</a:t>
            </a:r>
            <a:r>
              <a:rPr b="0" i="1" lang="en-US" sz="1400" spc="-1" strike="noStrike">
                <a:solidFill>
                  <a:srgbClr val="663300"/>
                </a:solidFill>
                <a:latin typeface="Arial"/>
              </a:rPr>
              <a:t>=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505320" y="2286000"/>
            <a:ext cx="2971800" cy="1219320"/>
          </a:xfrm>
          <a:prstGeom prst="bracketPair">
            <a:avLst>
              <a:gd name="adj" fmla="val 17129"/>
            </a:avLst>
          </a:prstGeom>
          <a:noFill/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Wait a brief period of time (heartbeat interval) for other side to send logout – this is done in case other side needs to do resend processing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949920" y="4723200"/>
            <a:ext cx="3335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Both sides disconnect by closing socket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429000" y="5105520"/>
            <a:ext cx="4343400" cy="0"/>
          </a:xfrm>
          <a:prstGeom prst="line">
            <a:avLst/>
          </a:prstGeom>
          <a:ln w="19080">
            <a:solidFill>
              <a:srgbClr val="9966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80880" y="1679040"/>
            <a:ext cx="1752840" cy="1159560"/>
          </a:xfrm>
          <a:prstGeom prst="borderCallout1">
            <a:avLst>
              <a:gd name="adj1" fmla="val 18750"/>
              <a:gd name="adj2" fmla="val -8333"/>
              <a:gd name="adj3" fmla="val 96550"/>
              <a:gd name="adj4" fmla="val 184041"/>
            </a:avLst>
          </a:prstGeom>
          <a:solidFill>
            <a:srgbClr val="ffffff"/>
          </a:soli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It is considered bad form to close the connection prior to receiving the logout confirma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048120" y="2819520"/>
            <a:ext cx="3581280" cy="99036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End of FIX Session Layer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Slide Show </a:t>
            </a:r>
            <a:endParaRPr b="0" lang="en-US" sz="18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Protocol Overview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tandardized session layer using administrative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pplication layer with application message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use tag level encoding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Tag#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=“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Value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&lt;SOH&gt;, ASCII 01 field separator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Message Structur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FIX Messages are identified by a MsgType[Tag 35] cod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Look up using Volume 6 or using FIXImate for the list of messages)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ll messages use a standard header and standard trailer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essages consists of required tags and optional tag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Customization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rading parties agree on specific usage and content of fields subject to the guidelines and definitions provided in the specification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FIX provides for custom tags to support extensions or specific trading requirement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Standard Header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eginString[8] identifies the version of FIX being used, for instance: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FIX 4.1”,  “FIX 4.2”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BodyLength[9] identifies the length of the messag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MsgType[35] Message type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360" y="60912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Identification of Trading Parties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990360" y="1371240"/>
            <a:ext cx="792468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SenderCompID[49] - Identifies the sender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TargetCompID[56] - Identifies the recipient of the message - counterparties agree on format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Arial"/>
              </a:rPr>
              <a:t>Additional header fields</a:t>
            </a:r>
            <a:endParaRPr b="0" lang="en-US" sz="20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Sub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LocID Fields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OnBehalfOf</a:t>
            </a:r>
            <a:br>
              <a:rPr sz="1800"/>
            </a:b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DeliverTo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Routing</a:t>
            </a:r>
            <a:endParaRPr b="0" lang="en-US" sz="1800" spc="-1" strike="noStrike">
              <a:solidFill>
                <a:srgbClr val="00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04920" y="914400"/>
            <a:ext cx="4572000" cy="1828800"/>
          </a:xfrm>
          <a:prstGeom prst="rect">
            <a:avLst/>
          </a:prstGeom>
          <a:solidFill>
            <a:srgbClr val="ffcccc"/>
          </a:solidFill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Your Application Progra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ding System, Order Management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981080" y="1523880"/>
            <a:ext cx="4343400" cy="3962520"/>
          </a:xfrm>
          <a:prstGeom prst="rect">
            <a:avLst/>
          </a:prstGeom>
          <a:noFill/>
          <a:ln w="25560">
            <a:solidFill>
              <a:srgbClr val="9966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040" y="228240"/>
            <a:ext cx="792468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Anatomy of a FIX Engine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04" name=""/>
          <p:cNvSpPr/>
          <p:nvPr/>
        </p:nvSpPr>
        <p:spPr>
          <a:xfrm>
            <a:off x="2209680" y="2971800"/>
            <a:ext cx="990720" cy="83808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ransa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Journal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809880" y="4267080"/>
            <a:ext cx="762120" cy="98604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DBMS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733920" y="167652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gin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3392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Encryp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257800" y="2971800"/>
            <a:ext cx="914400" cy="914400"/>
          </a:xfrm>
          <a:prstGeom prst="rect">
            <a:avLst/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Messag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Store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cxnSp>
        <p:nvCxnSpPr>
          <p:cNvPr id="109" name=""/>
          <p:cNvCxnSpPr>
            <a:stCxn id="106" idx="1"/>
            <a:endCxn id="104" idx="0"/>
          </p:cNvCxnSpPr>
          <p:nvPr/>
        </p:nvCxnSpPr>
        <p:spPr>
          <a:xfrm flipV="1" rot="10800000">
            <a:off x="2704320" y="2133360"/>
            <a:ext cx="10296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0" name=""/>
          <p:cNvCxnSpPr>
            <a:stCxn id="106" idx="2"/>
            <a:endCxn id="107" idx="0"/>
          </p:cNvCxnSpPr>
          <p:nvPr/>
        </p:nvCxnSpPr>
        <p:spPr>
          <a:xfrm flipV="1" rot="10800000">
            <a:off x="4190400" y="2590560"/>
            <a:ext cx="1080" cy="3816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1" name=""/>
          <p:cNvCxnSpPr>
            <a:stCxn id="106" idx="3"/>
            <a:endCxn id="108" idx="0"/>
          </p:cNvCxnSpPr>
          <p:nvPr/>
        </p:nvCxnSpPr>
        <p:spPr>
          <a:xfrm>
            <a:off x="4647960" y="2133720"/>
            <a:ext cx="1067400" cy="83880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2" name=""/>
          <p:cNvCxnSpPr>
            <a:stCxn id="104" idx="2"/>
            <a:endCxn id="105" idx="2"/>
          </p:cNvCxnSpPr>
          <p:nvPr/>
        </p:nvCxnSpPr>
        <p:spPr>
          <a:xfrm flipH="1" rot="16200000">
            <a:off x="2781000" y="3732840"/>
            <a:ext cx="951840" cy="110556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13" name=""/>
          <p:cNvCxnSpPr>
            <a:stCxn id="108" idx="2"/>
            <a:endCxn id="105" idx="4"/>
          </p:cNvCxnSpPr>
          <p:nvPr/>
        </p:nvCxnSpPr>
        <p:spPr>
          <a:xfrm rot="5400000">
            <a:off x="4705200" y="3751920"/>
            <a:ext cx="875520" cy="1143720"/>
          </a:xfrm>
          <a:prstGeom prst="bentConnector2">
            <a:avLst/>
          </a:prstGeom>
          <a:ln w="9360">
            <a:solidFill>
              <a:srgbClr val="9966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7086600" y="1447920"/>
            <a:ext cx="1447920" cy="9144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ecff"/>
              </a:gs>
              <a:gs pos="100000">
                <a:srgbClr val="00ccff"/>
              </a:gs>
            </a:gsLst>
            <a:lin ang="5400000"/>
          </a:gra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FIX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99"/>
                </a:solidFill>
                <a:latin typeface="Arial"/>
              </a:rPr>
              <a:t>Counterparty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648320" y="1600200"/>
            <a:ext cx="2438280" cy="457200"/>
          </a:xfrm>
          <a:prstGeom prst="leftRightArrow">
            <a:avLst>
              <a:gd name="adj1" fmla="val 50000"/>
              <a:gd name="adj2" fmla="val 106167"/>
            </a:avLst>
          </a:prstGeom>
          <a:gradFill rotWithShape="0">
            <a:gsLst>
              <a:gs pos="0">
                <a:srgbClr val="ff9966"/>
              </a:gs>
              <a:gs pos="50000">
                <a:srgbClr val="ffcc99"/>
              </a:gs>
              <a:gs pos="100000">
                <a:srgbClr val="ff9966"/>
              </a:gs>
            </a:gsLst>
            <a:lin ang="5400000"/>
          </a:gradFill>
          <a:ln w="9360">
            <a:solidFill>
              <a:srgbClr val="99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663300"/>
                </a:solidFill>
                <a:latin typeface="Arial"/>
              </a:rPr>
              <a:t>TCP/IP Connection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050480" y="5637960"/>
            <a:ext cx="7274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Diagram taken from Programmer’s Manual for the .FixAntenna Engine from B2B ITS Consulting Services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2"/>
              </a:rPr>
              <a:t>fix.btobits.com</a:t>
            </a:r>
            <a:r>
              <a:rPr b="0" lang="en-US" sz="1200" spc="-1" strike="noStrike">
                <a:solidFill>
                  <a:srgbClr val="663300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3"/>
              </a:rPr>
              <a:t>http://</a:t>
            </a:r>
            <a:r>
              <a:rPr b="0" lang="en-US" sz="1200" spc="-1" strike="noStrike" u="sng">
                <a:solidFill>
                  <a:srgbClr val="ff9966"/>
                </a:solidFill>
                <a:uFillTx/>
                <a:latin typeface="Arial"/>
                <a:hlinkClick r:id="rId4"/>
              </a:rPr>
              <a:t>www.btobits.com</a:t>
            </a: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52280" y="1752480"/>
            <a:ext cx="312444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295280"/>
            <a:ext cx="380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Custom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 Investment Mg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295280"/>
            <a:ext cx="32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10000"/>
                </a:solidFill>
                <a:latin typeface="Arial"/>
              </a:rPr>
              <a:t>Supplier </a:t>
            </a:r>
            <a:r>
              <a:rPr b="1" lang="en-US" sz="1600" spc="-1" strike="noStrike">
                <a:solidFill>
                  <a:srgbClr val="010000"/>
                </a:solidFill>
                <a:latin typeface="Arial"/>
              </a:rPr>
              <a:t>(i.e.Broker/Dealer)</a:t>
            </a:r>
            <a:endParaRPr b="0" lang="en-US" sz="16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066680" y="1752480"/>
            <a:ext cx="129564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1752480"/>
            <a:ext cx="3124080" cy="1676520"/>
          </a:xfrm>
          <a:prstGeom prst="rect">
            <a:avLst/>
          </a:prstGeom>
          <a:solidFill>
            <a:srgbClr val="9933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705720" y="1752480"/>
            <a:ext cx="1295280" cy="307080"/>
          </a:xfrm>
          <a:prstGeom prst="rect">
            <a:avLst/>
          </a:prstGeom>
          <a:solidFill>
            <a:srgbClr val="ccecff"/>
          </a:solidFill>
          <a:ln w="1260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FIX System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152280" y="2666880"/>
            <a:ext cx="8839440" cy="3400200"/>
            <a:chOff x="152280" y="2666880"/>
            <a:chExt cx="8839440" cy="3400200"/>
          </a:xfrm>
        </p:grpSpPr>
        <p:grpSp>
          <p:nvGrpSpPr>
            <p:cNvPr id="124" name=""/>
            <p:cNvGrpSpPr/>
            <p:nvPr/>
          </p:nvGrpSpPr>
          <p:grpSpPr>
            <a:xfrm>
              <a:off x="152280" y="2666880"/>
              <a:ext cx="3353040" cy="3247920"/>
              <a:chOff x="152280" y="2666880"/>
              <a:chExt cx="3353040" cy="3247920"/>
            </a:xfrm>
          </p:grpSpPr>
          <p:sp>
            <p:nvSpPr>
              <p:cNvPr id="125" name=""/>
              <p:cNvSpPr/>
              <p:nvPr/>
            </p:nvSpPr>
            <p:spPr>
              <a:xfrm>
                <a:off x="121932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533520" y="2666880"/>
                <a:ext cx="1440" cy="106524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grpSp>
            <p:nvGrpSpPr>
              <p:cNvPr id="127" name=""/>
              <p:cNvGrpSpPr/>
              <p:nvPr/>
            </p:nvGrpSpPr>
            <p:grpSpPr>
              <a:xfrm>
                <a:off x="152280" y="3733560"/>
                <a:ext cx="3353040" cy="2181240"/>
                <a:chOff x="152280" y="3733560"/>
                <a:chExt cx="3353040" cy="2181240"/>
              </a:xfrm>
            </p:grpSpPr>
            <p:sp>
              <p:nvSpPr>
                <p:cNvPr id="128" name=""/>
                <p:cNvSpPr/>
                <p:nvPr/>
              </p:nvSpPr>
              <p:spPr>
                <a:xfrm>
                  <a:off x="304920" y="3733560"/>
                  <a:ext cx="251460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Order Management System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304920" y="4495680"/>
                  <a:ext cx="2971800" cy="0"/>
                </a:xfrm>
                <a:prstGeom prst="line">
                  <a:avLst/>
                </a:prstGeom>
                <a:ln w="3816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8380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7524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2666880" y="4800240"/>
                  <a:ext cx="838440" cy="30708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523880" y="4038480"/>
                  <a:ext cx="0" cy="4572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29528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1337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3048120" y="4495680"/>
                  <a:ext cx="0" cy="30456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152280" y="5181480"/>
                  <a:ext cx="1067040" cy="733320"/>
                </a:xfrm>
                <a:prstGeom prst="rect">
                  <a:avLst/>
                </a:prstGeom>
                <a:solidFill>
                  <a:srgbClr val="009999"/>
                </a:solidFill>
                <a:ln w="12600">
                  <a:solidFill>
                    <a:srgbClr val="0066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876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10000"/>
                      </a:solidFill>
                      <a:latin typeface="Arial"/>
                    </a:rPr>
                    <a:t>Trader in Foreign Office</a:t>
                  </a:r>
                  <a:endParaRPr b="0" lang="en-US" sz="1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 flipH="1">
                  <a:off x="533160" y="4495680"/>
                  <a:ext cx="152280" cy="685800"/>
                </a:xfrm>
                <a:prstGeom prst="line">
                  <a:avLst/>
                </a:prstGeom>
                <a:ln w="12600">
                  <a:solidFill>
                    <a:srgbClr val="006699"/>
                  </a:solidFill>
                  <a:miter/>
                  <a:headEnd len="sm" type="triangle" w="sm"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9999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9" name=""/>
            <p:cNvGrpSpPr/>
            <p:nvPr/>
          </p:nvGrpSpPr>
          <p:grpSpPr>
            <a:xfrm>
              <a:off x="5791320" y="2666880"/>
              <a:ext cx="3200400" cy="3400200"/>
              <a:chOff x="5791320" y="2666880"/>
              <a:chExt cx="3200400" cy="3400200"/>
            </a:xfrm>
          </p:grpSpPr>
          <p:sp>
            <p:nvSpPr>
              <p:cNvPr id="140" name=""/>
              <p:cNvSpPr/>
              <p:nvPr/>
            </p:nvSpPr>
            <p:spPr>
              <a:xfrm>
                <a:off x="5943600" y="3733560"/>
                <a:ext cx="251460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Order Management System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943600" y="4495680"/>
                <a:ext cx="2971800" cy="0"/>
              </a:xfrm>
              <a:prstGeom prst="line">
                <a:avLst/>
              </a:prstGeom>
              <a:ln w="3816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7913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67057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620120" y="4800240"/>
                <a:ext cx="83808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7315200" y="4038480"/>
                <a:ext cx="0" cy="45720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24852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866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8001000" y="4495680"/>
                <a:ext cx="0" cy="30456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924680" y="5333760"/>
                <a:ext cx="1067040" cy="73332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Trader in Foreign Offic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8534520" y="4495680"/>
                <a:ext cx="228600" cy="8380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8153280" y="2666880"/>
                <a:ext cx="0" cy="1066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6858000" y="3352680"/>
                <a:ext cx="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53" name=""/>
          <p:cNvGrpSpPr/>
          <p:nvPr/>
        </p:nvGrpSpPr>
        <p:grpSpPr>
          <a:xfrm>
            <a:off x="228600" y="2133720"/>
            <a:ext cx="8610480" cy="1206000"/>
            <a:chOff x="228600" y="2133720"/>
            <a:chExt cx="8610480" cy="1206000"/>
          </a:xfrm>
        </p:grpSpPr>
        <p:grpSp>
          <p:nvGrpSpPr>
            <p:cNvPr id="154" name=""/>
            <p:cNvGrpSpPr/>
            <p:nvPr/>
          </p:nvGrpSpPr>
          <p:grpSpPr>
            <a:xfrm>
              <a:off x="228600" y="2133720"/>
              <a:ext cx="2971800" cy="1206000"/>
              <a:chOff x="228600" y="2133720"/>
              <a:chExt cx="2971800" cy="1206000"/>
            </a:xfrm>
          </p:grpSpPr>
          <p:sp>
            <p:nvSpPr>
              <p:cNvPr id="155" name=""/>
              <p:cNvSpPr/>
              <p:nvPr/>
            </p:nvSpPr>
            <p:spPr>
              <a:xfrm>
                <a:off x="1981080" y="221004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2286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685800" y="28195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 flipH="1">
                <a:off x="1752120" y="236232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1979640" y="2513160"/>
                <a:ext cx="301680" cy="3016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5867280" y="2133720"/>
              <a:ext cx="2971800" cy="1206000"/>
              <a:chOff x="5867280" y="2133720"/>
              <a:chExt cx="2971800" cy="1206000"/>
            </a:xfrm>
          </p:grpSpPr>
          <p:sp>
            <p:nvSpPr>
              <p:cNvPr id="161" name=""/>
              <p:cNvSpPr/>
              <p:nvPr/>
            </p:nvSpPr>
            <p:spPr>
              <a:xfrm>
                <a:off x="5867280" y="2133720"/>
                <a:ext cx="1219320" cy="30708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FIX Engine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7315200" y="2133720"/>
                <a:ext cx="152388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6324480" y="2819520"/>
                <a:ext cx="1524240" cy="520200"/>
              </a:xfrm>
              <a:prstGeom prst="rect">
                <a:avLst/>
              </a:prstGeom>
              <a:solidFill>
                <a:srgbClr val="009999"/>
              </a:solidFill>
              <a:ln w="12600">
                <a:solidFill>
                  <a:srgbClr val="0066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876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010000"/>
                    </a:solidFill>
                    <a:latin typeface="Arial"/>
                  </a:rPr>
                  <a:t>Business Msg Processing</a:t>
                </a:r>
                <a:endParaRPr b="0" lang="en-US" sz="1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7086600" y="2286000"/>
                <a:ext cx="228600" cy="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6629400" y="2438640"/>
                <a:ext cx="152280" cy="380880"/>
              </a:xfrm>
              <a:prstGeom prst="line">
                <a:avLst/>
              </a:prstGeom>
              <a:ln w="12600">
                <a:solidFill>
                  <a:srgbClr val="006699"/>
                </a:solidFill>
                <a:miter/>
                <a:headEnd len="sm" type="triangle" w="sm"/>
                <a:tailEnd len="sm" type="triangle" w="sm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9999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66" name=""/>
          <p:cNvGrpSpPr/>
          <p:nvPr/>
        </p:nvGrpSpPr>
        <p:grpSpPr>
          <a:xfrm>
            <a:off x="3200400" y="2286000"/>
            <a:ext cx="2666880" cy="76320"/>
            <a:chOff x="3200400" y="2286000"/>
            <a:chExt cx="2666880" cy="76320"/>
          </a:xfrm>
        </p:grpSpPr>
        <p:sp>
          <p:nvSpPr>
            <p:cNvPr id="167" name=""/>
            <p:cNvSpPr/>
            <p:nvPr/>
          </p:nvSpPr>
          <p:spPr>
            <a:xfrm>
              <a:off x="3200400" y="2286000"/>
              <a:ext cx="106668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head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4190760" y="2286000"/>
              <a:ext cx="75960" cy="7632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4191120" y="2362320"/>
              <a:ext cx="1676160" cy="0"/>
            </a:xfrm>
            <a:prstGeom prst="line">
              <a:avLst/>
            </a:prstGeom>
            <a:ln w="19080">
              <a:solidFill>
                <a:srgbClr val="006699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9999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276720" y="1981080"/>
            <a:ext cx="2361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Wide Area Network Link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2362320"/>
            <a:ext cx="2362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TCP/IP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352680" y="2666880"/>
            <a:ext cx="2362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10000"/>
                </a:solidFill>
                <a:latin typeface="Arial"/>
              </a:rPr>
              <a:t>(TCP Socket opened by customer, persists during life of FIX session)</a:t>
            </a:r>
            <a:endParaRPr b="0" lang="en-US" sz="1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47560" y="380520"/>
            <a:ext cx="601956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99"/>
                </a:solidFill>
                <a:latin typeface="Arial Narrow"/>
              </a:rPr>
              <a:t>FIX System Connectivity</a:t>
            </a:r>
            <a:endParaRPr b="1" lang="en-US" sz="2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74" name=""/>
          <p:cNvSpPr/>
          <p:nvPr/>
        </p:nvSpPr>
        <p:spPr>
          <a:xfrm>
            <a:off x="2971800" y="5867280"/>
            <a:ext cx="3505320" cy="22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10000"/>
                </a:solidFill>
                <a:latin typeface="Arial"/>
              </a:rPr>
              <a:t>© FIX Protocol Limited - March, 2000</a:t>
            </a:r>
            <a:endParaRPr b="0" lang="en-US" sz="900" spc="-1" strike="noStrike">
              <a:solidFill>
                <a:srgbClr val="009999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6T15:59:51Z</dcterms:created>
  <dc:creator>Jim Northey</dc:creator>
  <dc:description/>
  <dc:language>en-US</dc:language>
  <cp:lastModifiedBy>Jacob</cp:lastModifiedBy>
  <cp:lastPrinted>2001-09-25T15:24:55Z</cp:lastPrinted>
  <dcterms:modified xsi:type="dcterms:W3CDTF">2004-08-26T23:22:24Z</dcterms:modified>
  <cp:revision>108</cp:revision>
  <dc:subject/>
  <dc:title>General</dc:title>
</cp:coreProperties>
</file>